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05D-1506-4BE8-AD0E-A6C5F31B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846-1D85-489E-A578-4B2AAC2C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605-A20E-4BD0-8552-AD8993A1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C79-C023-4C3A-B0A7-48F9817E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5DC-A363-4D27-8989-B3B997FF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14D-BA3B-49B3-A709-B8DB52D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1EA-0695-44B6-A1FF-3B10FD3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8A6-23DC-4055-A7FE-7759ADDD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2AD-B914-470E-9B74-FD0B560B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4F6-1994-4E9E-AD3F-9A96CACB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742-5C3F-4B05-920C-36991560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D63-3A19-4AF2-96AE-7352E44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BA21-AF85-496E-92A7-0C1F23CBB06A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Hybridization Techniqu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-152280" y="2895120"/>
            <a:ext cx="9447840" cy="838440"/>
            <a:chOff x="-152280" y="2895120"/>
            <a:chExt cx="9447840" cy="838440"/>
          </a:xfrm>
        </p:grpSpPr>
        <p:grpSp>
          <p:nvGrpSpPr>
            <p:cNvPr id="43" name="Group 10"/>
            <p:cNvGrpSpPr/>
            <p:nvPr/>
          </p:nvGrpSpPr>
          <p:grpSpPr>
            <a:xfrm>
              <a:off x="-152280" y="2895120"/>
              <a:ext cx="4835160" cy="838440"/>
              <a:chOff x="-152280" y="2895120"/>
              <a:chExt cx="4835160" cy="838440"/>
            </a:xfrm>
          </p:grpSpPr>
          <p:pic>
            <p:nvPicPr>
              <p:cNvPr id="44" name="Picture 5" descr="dna"/>
              <p:cNvPicPr/>
              <p:nvPr/>
            </p:nvPicPr>
            <p:blipFill>
              <a:blip r:embed="rId1"/>
              <a:stretch/>
            </p:blipFill>
            <p:spPr>
              <a:xfrm rot="16200000">
                <a:off x="309600" y="243288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7" descr="dna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1850400" y="243432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9" descr="dna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3383640" y="243432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Group 11"/>
            <p:cNvGrpSpPr/>
            <p:nvPr/>
          </p:nvGrpSpPr>
          <p:grpSpPr>
            <a:xfrm>
              <a:off x="4460400" y="2895120"/>
              <a:ext cx="4835160" cy="838440"/>
              <a:chOff x="4460400" y="2895120"/>
              <a:chExt cx="4835160" cy="838440"/>
            </a:xfrm>
          </p:grpSpPr>
          <p:pic>
            <p:nvPicPr>
              <p:cNvPr id="48" name="Picture 12" descr="dna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4922280" y="243288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13" descr="dna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6463080" y="243432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14" descr="dna"/>
              <p:cNvPicPr/>
              <p:nvPr/>
            </p:nvPicPr>
            <p:blipFill>
              <a:blip r:embed="rId6"/>
              <a:stretch/>
            </p:blipFill>
            <p:spPr>
              <a:xfrm rot="16200000">
                <a:off x="7996320" y="2434320"/>
                <a:ext cx="837000" cy="176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2. Gel Electrophoresi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67" name="Group 51"/>
          <p:cNvGrpSpPr/>
          <p:nvPr/>
        </p:nvGrpSpPr>
        <p:grpSpPr>
          <a:xfrm>
            <a:off x="292320" y="3200400"/>
            <a:ext cx="8566920" cy="2971800"/>
            <a:chOff x="292320" y="3200400"/>
            <a:chExt cx="8566920" cy="2971800"/>
          </a:xfrm>
        </p:grpSpPr>
        <p:sp>
          <p:nvSpPr>
            <p:cNvPr id="168" name="Rectangle 12"/>
            <p:cNvSpPr/>
            <p:nvPr/>
          </p:nvSpPr>
          <p:spPr>
            <a:xfrm>
              <a:off x="762120" y="3200400"/>
              <a:ext cx="7543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1066680" y="3657600"/>
              <a:ext cx="304920" cy="2133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292320" y="4294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Lucida Sans Unicode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8475840" y="4433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Lucida Sans Unicode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2" name="Group 45"/>
            <p:cNvGrpSpPr/>
            <p:nvPr/>
          </p:nvGrpSpPr>
          <p:grpSpPr>
            <a:xfrm>
              <a:off x="2286000" y="3581280"/>
              <a:ext cx="5410080" cy="2235240"/>
              <a:chOff x="2286000" y="3581280"/>
              <a:chExt cx="5410080" cy="2235240"/>
            </a:xfrm>
          </p:grpSpPr>
          <p:sp>
            <p:nvSpPr>
              <p:cNvPr id="173" name="Oval 46"/>
              <p:cNvSpPr/>
              <p:nvPr/>
            </p:nvSpPr>
            <p:spPr>
              <a:xfrm>
                <a:off x="2286000" y="3606840"/>
                <a:ext cx="457200" cy="220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Oval 47"/>
              <p:cNvSpPr/>
              <p:nvPr/>
            </p:nvSpPr>
            <p:spPr>
              <a:xfrm>
                <a:off x="2819520" y="3606840"/>
                <a:ext cx="457200" cy="220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Oval 48"/>
              <p:cNvSpPr/>
              <p:nvPr/>
            </p:nvSpPr>
            <p:spPr>
              <a:xfrm>
                <a:off x="4343400" y="3581280"/>
                <a:ext cx="457200" cy="221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Oval 49"/>
              <p:cNvSpPr/>
              <p:nvPr/>
            </p:nvSpPr>
            <p:spPr>
              <a:xfrm>
                <a:off x="6172200" y="3581280"/>
                <a:ext cx="457200" cy="221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Oval 50"/>
              <p:cNvSpPr/>
              <p:nvPr/>
            </p:nvSpPr>
            <p:spPr>
              <a:xfrm>
                <a:off x="7238880" y="3581280"/>
                <a:ext cx="457200" cy="221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78" name="Picture 53" descr="ap0027_fig2"/>
          <p:cNvPicPr/>
          <p:nvPr/>
        </p:nvPicPr>
        <p:blipFill>
          <a:blip r:embed="rId1"/>
          <a:srcRect l="0" t="19553" r="38675" b="0"/>
          <a:stretch/>
        </p:blipFill>
        <p:spPr>
          <a:xfrm>
            <a:off x="5416560" y="2286000"/>
            <a:ext cx="1898640" cy="373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24583 -0.07222 E">
                                      <p:cBhvr>
                                        <p:cTn id="15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Goals of Southern Hybridization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Immobilize DNA onto a permanent substr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Membrane’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aper-like matrix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nylon or nitrocellulo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usually has a slight positive char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Oval 43"/>
          <p:cNvSpPr/>
          <p:nvPr/>
        </p:nvSpPr>
        <p:spPr>
          <a:xfrm>
            <a:off x="144792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44"/>
          <p:cNvSpPr/>
          <p:nvPr/>
        </p:nvSpPr>
        <p:spPr>
          <a:xfrm>
            <a:off x="267984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45"/>
          <p:cNvSpPr/>
          <p:nvPr/>
        </p:nvSpPr>
        <p:spPr>
          <a:xfrm>
            <a:off x="388620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46"/>
          <p:cNvSpPr/>
          <p:nvPr/>
        </p:nvSpPr>
        <p:spPr>
          <a:xfrm>
            <a:off x="510552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6337440" y="4762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48"/>
          <p:cNvSpPr/>
          <p:nvPr/>
        </p:nvSpPr>
        <p:spPr>
          <a:xfrm>
            <a:off x="7556400" y="4762440"/>
            <a:ext cx="152640" cy="152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70"/>
          <p:cNvGrpSpPr/>
          <p:nvPr/>
        </p:nvGrpSpPr>
        <p:grpSpPr>
          <a:xfrm>
            <a:off x="914400" y="4952880"/>
            <a:ext cx="7315200" cy="838080"/>
            <a:chOff x="914400" y="4952880"/>
            <a:chExt cx="7315200" cy="838080"/>
          </a:xfrm>
        </p:grpSpPr>
        <p:sp>
          <p:nvSpPr>
            <p:cNvPr id="189" name="Rectangle 4"/>
            <p:cNvSpPr/>
            <p:nvPr/>
          </p:nvSpPr>
          <p:spPr>
            <a:xfrm>
              <a:off x="914400" y="54864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1371600" y="495288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2133720" y="5486400"/>
              <a:ext cx="121896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2590920" y="495288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3809880" y="495288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5029200" y="495288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5791320" y="5486400"/>
              <a:ext cx="121896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7010280" y="54864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467480" y="495288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6248520" y="495288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004700"/>
                </a:gs>
                <a:gs pos="50000">
                  <a:srgbClr val="009900"/>
                </a:gs>
                <a:gs pos="100000">
                  <a:srgbClr val="004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51"/>
            <p:cNvSpPr/>
            <p:nvPr/>
          </p:nvSpPr>
          <p:spPr>
            <a:xfrm>
              <a:off x="4572000" y="54864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52"/>
            <p:cNvSpPr/>
            <p:nvPr/>
          </p:nvSpPr>
          <p:spPr>
            <a:xfrm>
              <a:off x="3352680" y="54864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1" name="Group 69"/>
          <p:cNvGrpSpPr/>
          <p:nvPr/>
        </p:nvGrpSpPr>
        <p:grpSpPr>
          <a:xfrm>
            <a:off x="914400" y="3886200"/>
            <a:ext cx="7315200" cy="838080"/>
            <a:chOff x="914400" y="3886200"/>
            <a:chExt cx="7315200" cy="838080"/>
          </a:xfrm>
        </p:grpSpPr>
        <p:sp>
          <p:nvSpPr>
            <p:cNvPr id="202" name="Rectangle 18"/>
            <p:cNvSpPr/>
            <p:nvPr/>
          </p:nvSpPr>
          <p:spPr>
            <a:xfrm>
              <a:off x="914400" y="38862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19"/>
            <p:cNvSpPr/>
            <p:nvPr/>
          </p:nvSpPr>
          <p:spPr>
            <a:xfrm>
              <a:off x="1371600" y="419076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>
              <a:off x="2590920" y="419076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004700"/>
                </a:gs>
                <a:gs pos="50000">
                  <a:srgbClr val="009900"/>
                </a:gs>
                <a:gs pos="100000">
                  <a:srgbClr val="004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7467480" y="419076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36"/>
            <p:cNvSpPr/>
            <p:nvPr/>
          </p:nvSpPr>
          <p:spPr>
            <a:xfrm>
              <a:off x="3809880" y="419076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7"/>
            <p:cNvSpPr/>
            <p:nvPr/>
          </p:nvSpPr>
          <p:spPr>
            <a:xfrm>
              <a:off x="5029200" y="419076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42"/>
            <p:cNvSpPr/>
            <p:nvPr/>
          </p:nvSpPr>
          <p:spPr>
            <a:xfrm>
              <a:off x="6248520" y="419076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50"/>
            <p:cNvSpPr/>
            <p:nvPr/>
          </p:nvSpPr>
          <p:spPr>
            <a:xfrm>
              <a:off x="7010280" y="38862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6"/>
            <p:cNvSpPr/>
            <p:nvPr/>
          </p:nvSpPr>
          <p:spPr>
            <a:xfrm>
              <a:off x="2133720" y="3886200"/>
              <a:ext cx="121896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5791320" y="3886200"/>
              <a:ext cx="121896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4572000" y="38862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3352680" y="3886200"/>
              <a:ext cx="1219320" cy="30456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3. DNA Denaturat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Rectangle 74"/>
          <p:cNvSpPr/>
          <p:nvPr/>
        </p:nvSpPr>
        <p:spPr>
          <a:xfrm>
            <a:off x="15228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Eliminate hydrogen bonds with sodium hydroxide (NaO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 0.06112 E">
                                      <p:cBhvr>
                                        <p:cTn id="20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 -0.06111 E">
                                      <p:cBhvr>
                                        <p:cTn id="20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Step 4. Transfer DNA to Membran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152280" y="1066680"/>
            <a:ext cx="86108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wo methods for transferring DNA to a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lectrophoretic (www.pnas.org/content/76/9/4350.full.pdf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38" descr="f00086"/>
          <p:cNvPicPr/>
          <p:nvPr/>
        </p:nvPicPr>
        <p:blipFill>
          <a:blip r:embed="rId1"/>
          <a:stretch/>
        </p:blipFill>
        <p:spPr>
          <a:xfrm>
            <a:off x="609480" y="3782880"/>
            <a:ext cx="3962520" cy="299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PDetectFig24"/>
          <p:cNvPicPr/>
          <p:nvPr/>
        </p:nvPicPr>
        <p:blipFill>
          <a:blip r:embed="rId2"/>
          <a:stretch/>
        </p:blipFill>
        <p:spPr>
          <a:xfrm>
            <a:off x="4800600" y="3781440"/>
            <a:ext cx="36576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724280" y="2209680"/>
            <a:ext cx="213372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Step 4. Transfer DNA to Membran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2057400" y="2209680"/>
            <a:ext cx="1752480" cy="381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" name="Group 13"/>
          <p:cNvGrpSpPr/>
          <p:nvPr/>
        </p:nvGrpSpPr>
        <p:grpSpPr>
          <a:xfrm>
            <a:off x="2514600" y="3048120"/>
            <a:ext cx="914400" cy="2514600"/>
            <a:chOff x="2514600" y="3048120"/>
            <a:chExt cx="914400" cy="2514600"/>
          </a:xfrm>
        </p:grpSpPr>
        <p:sp>
          <p:nvSpPr>
            <p:cNvPr id="226" name="Oval 8"/>
            <p:cNvSpPr/>
            <p:nvPr/>
          </p:nvSpPr>
          <p:spPr>
            <a:xfrm>
              <a:off x="2514600" y="304812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2514600" y="327672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2514600" y="411480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514600" y="502920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2514600" y="5410080"/>
              <a:ext cx="91440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Rectangle 14"/>
          <p:cNvSpPr/>
          <p:nvPr/>
        </p:nvSpPr>
        <p:spPr>
          <a:xfrm>
            <a:off x="2514600" y="2438280"/>
            <a:ext cx="9144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0.30833 0.00555 E">
                                      <p:cBhvr>
                                        <p:cTn id="21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Goals of Southern Hybridization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Immobilize DNA onto a permanent substr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Identify DNA sequence (gene) of interes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5. Making a Prob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A probe is a small (25-2000 bp) length of DNA or RN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mplementary to the sequence (gene) of intere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abeled for subsequent detection procedu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5. Making a Prob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How do we detect the prob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adioactivity (</a:t>
            </a: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32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8" name="Group 9"/>
          <p:cNvGrpSpPr/>
          <p:nvPr/>
        </p:nvGrpSpPr>
        <p:grpSpPr>
          <a:xfrm>
            <a:off x="457200" y="3200400"/>
            <a:ext cx="4572000" cy="3200400"/>
            <a:chOff x="457200" y="3200400"/>
            <a:chExt cx="4572000" cy="3200400"/>
          </a:xfrm>
        </p:grpSpPr>
        <p:sp>
          <p:nvSpPr>
            <p:cNvPr id="239" name="Rectangle 6"/>
            <p:cNvSpPr/>
            <p:nvPr/>
          </p:nvSpPr>
          <p:spPr>
            <a:xfrm>
              <a:off x="457200" y="3200400"/>
              <a:ext cx="457200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0" name="Picture 5" descr="datp"/>
            <p:cNvPicPr/>
            <p:nvPr/>
          </p:nvPicPr>
          <p:blipFill>
            <a:blip r:embed="rId1"/>
            <a:stretch/>
          </p:blipFill>
          <p:spPr>
            <a:xfrm>
              <a:off x="762120" y="3353040"/>
              <a:ext cx="4081320" cy="281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Picture 8" descr="3_36"/>
          <p:cNvPicPr/>
          <p:nvPr/>
        </p:nvPicPr>
        <p:blipFill>
          <a:blip r:embed="rId2"/>
          <a:srcRect l="23798" t="0" r="22416" b="0"/>
          <a:stretch/>
        </p:blipFill>
        <p:spPr>
          <a:xfrm>
            <a:off x="5562720" y="2495520"/>
            <a:ext cx="2708280" cy="3905280"/>
          </a:xfrm>
          <a:prstGeom prst="rect">
            <a:avLst/>
          </a:prstGeom>
          <a:ln w="0">
            <a:noFill/>
          </a:ln>
        </p:spPr>
      </p:pic>
      <p:sp>
        <p:nvSpPr>
          <p:cNvPr id="242" name="Oval 10"/>
          <p:cNvSpPr/>
          <p:nvPr/>
        </p:nvSpPr>
        <p:spPr>
          <a:xfrm>
            <a:off x="5867280" y="5105520"/>
            <a:ext cx="3049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7591320" y="4433760"/>
            <a:ext cx="3049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Oval 12"/>
          <p:cNvSpPr/>
          <p:nvPr/>
        </p:nvSpPr>
        <p:spPr>
          <a:xfrm>
            <a:off x="2652840" y="4586400"/>
            <a:ext cx="3045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1919160" y="4586400"/>
            <a:ext cx="3049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190520" y="4586400"/>
            <a:ext cx="3049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5. Making a Prob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How do we detect the prob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Digoxigenin (DIG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9" name="Picture 9" descr="DIG_structure_small"/>
          <p:cNvPicPr/>
          <p:nvPr/>
        </p:nvPicPr>
        <p:blipFill>
          <a:blip r:embed="rId1"/>
          <a:stretch/>
        </p:blipFill>
        <p:spPr>
          <a:xfrm>
            <a:off x="228600" y="3819600"/>
            <a:ext cx="4800600" cy="2581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3_36"/>
          <p:cNvPicPr/>
          <p:nvPr/>
        </p:nvPicPr>
        <p:blipFill>
          <a:blip r:embed="rId2"/>
          <a:srcRect l="17457" t="0" r="23237" b="0"/>
          <a:stretch/>
        </p:blipFill>
        <p:spPr>
          <a:xfrm>
            <a:off x="5257800" y="2514600"/>
            <a:ext cx="2971800" cy="3886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1"/>
          <p:cNvSpPr/>
          <p:nvPr/>
        </p:nvSpPr>
        <p:spPr>
          <a:xfrm>
            <a:off x="6448320" y="3710160"/>
            <a:ext cx="152640" cy="228600"/>
          </a:xfrm>
          <a:prstGeom prst="rect">
            <a:avLst/>
          </a:prstGeom>
          <a:solidFill>
            <a:srgbClr val="9a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5651640" y="35560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14"/>
          <p:cNvSpPr/>
          <p:nvPr/>
        </p:nvSpPr>
        <p:spPr>
          <a:xfrm rot="2291400">
            <a:off x="5486040" y="349236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724280" y="2209680"/>
            <a:ext cx="213372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6. Pre-hybridizat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5334120" y="3048120"/>
            <a:ext cx="914400" cy="2514600"/>
            <a:chOff x="5334120" y="3048120"/>
            <a:chExt cx="914400" cy="2514600"/>
          </a:xfrm>
        </p:grpSpPr>
        <p:sp>
          <p:nvSpPr>
            <p:cNvPr id="258" name="Oval 7"/>
            <p:cNvSpPr/>
            <p:nvPr/>
          </p:nvSpPr>
          <p:spPr>
            <a:xfrm>
              <a:off x="5334120" y="304812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8"/>
            <p:cNvSpPr/>
            <p:nvPr/>
          </p:nvSpPr>
          <p:spPr>
            <a:xfrm>
              <a:off x="5334120" y="327672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9"/>
            <p:cNvSpPr/>
            <p:nvPr/>
          </p:nvSpPr>
          <p:spPr>
            <a:xfrm>
              <a:off x="5334120" y="411480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10"/>
            <p:cNvSpPr/>
            <p:nvPr/>
          </p:nvSpPr>
          <p:spPr>
            <a:xfrm>
              <a:off x="5334120" y="5029200"/>
              <a:ext cx="9144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11"/>
            <p:cNvSpPr/>
            <p:nvPr/>
          </p:nvSpPr>
          <p:spPr>
            <a:xfrm>
              <a:off x="5334120" y="5410080"/>
              <a:ext cx="91440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Text Box 14"/>
          <p:cNvSpPr/>
          <p:nvPr/>
        </p:nvSpPr>
        <p:spPr>
          <a:xfrm>
            <a:off x="152280" y="3187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ehybridization buff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tain ‘blocking reagents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hat occupy available binding sites on the membr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History/Backgroun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outhern’ hybridization named after Sir Edwin Souther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Developed in 197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One of the most highly cited scientific publica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Earned Sir Southern a Lasker Award in 200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5" descr="Professor Sir Edwin Southern"/>
          <p:cNvPicPr/>
          <p:nvPr/>
        </p:nvPicPr>
        <p:blipFill>
          <a:blip r:embed="rId1"/>
          <a:stretch/>
        </p:blipFill>
        <p:spPr>
          <a:xfrm>
            <a:off x="6019920" y="224784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65" name="Group 11"/>
          <p:cNvGrpSpPr/>
          <p:nvPr/>
        </p:nvGrpSpPr>
        <p:grpSpPr>
          <a:xfrm>
            <a:off x="295200" y="90360"/>
            <a:ext cx="4114440" cy="6629040"/>
            <a:chOff x="295200" y="90360"/>
            <a:chExt cx="4114440" cy="6629040"/>
          </a:xfrm>
        </p:grpSpPr>
        <p:sp>
          <p:nvSpPr>
            <p:cNvPr id="266" name="Rectangle 2"/>
            <p:cNvSpPr/>
            <p:nvPr/>
          </p:nvSpPr>
          <p:spPr>
            <a:xfrm>
              <a:off x="295200" y="90360"/>
              <a:ext cx="4114440" cy="6629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7" name="Group 5"/>
            <p:cNvGrpSpPr/>
            <p:nvPr/>
          </p:nvGrpSpPr>
          <p:grpSpPr>
            <a:xfrm>
              <a:off x="1470960" y="1549080"/>
              <a:ext cx="1762560" cy="4374000"/>
              <a:chOff x="1470960" y="1549080"/>
              <a:chExt cx="1762560" cy="4374000"/>
            </a:xfrm>
          </p:grpSpPr>
          <p:sp>
            <p:nvSpPr>
              <p:cNvPr id="268" name="Oval 6"/>
              <p:cNvSpPr/>
              <p:nvPr/>
            </p:nvSpPr>
            <p:spPr>
              <a:xfrm>
                <a:off x="1470960" y="1549080"/>
                <a:ext cx="17625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Oval 7"/>
              <p:cNvSpPr/>
              <p:nvPr/>
            </p:nvSpPr>
            <p:spPr>
              <a:xfrm>
                <a:off x="1470960" y="1946520"/>
                <a:ext cx="17625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Oval 8"/>
              <p:cNvSpPr/>
              <p:nvPr/>
            </p:nvSpPr>
            <p:spPr>
              <a:xfrm>
                <a:off x="1470960" y="3404520"/>
                <a:ext cx="17625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9"/>
              <p:cNvSpPr/>
              <p:nvPr/>
            </p:nvSpPr>
            <p:spPr>
              <a:xfrm>
                <a:off x="1470960" y="4995360"/>
                <a:ext cx="17625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10"/>
              <p:cNvSpPr/>
              <p:nvPr/>
            </p:nvSpPr>
            <p:spPr>
              <a:xfrm>
                <a:off x="1470960" y="5657760"/>
                <a:ext cx="1762560" cy="265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3" name="Group 16"/>
          <p:cNvGrpSpPr/>
          <p:nvPr/>
        </p:nvGrpSpPr>
        <p:grpSpPr>
          <a:xfrm>
            <a:off x="905040" y="4129200"/>
            <a:ext cx="1065960" cy="0"/>
            <a:chOff x="905040" y="4129200"/>
            <a:chExt cx="1065960" cy="0"/>
          </a:xfrm>
        </p:grpSpPr>
        <p:sp>
          <p:nvSpPr>
            <p:cNvPr id="274" name="Line 12"/>
            <p:cNvSpPr/>
            <p:nvPr/>
          </p:nvSpPr>
          <p:spPr>
            <a:xfrm>
              <a:off x="905040" y="4129200"/>
              <a:ext cx="9684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 flipH="1">
              <a:off x="1001520" y="4129200"/>
              <a:ext cx="96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6" name="Group 17"/>
          <p:cNvGrpSpPr/>
          <p:nvPr/>
        </p:nvGrpSpPr>
        <p:grpSpPr>
          <a:xfrm>
            <a:off x="2581200" y="2757600"/>
            <a:ext cx="609480" cy="0"/>
            <a:chOff x="2581200" y="2757600"/>
            <a:chExt cx="609480" cy="0"/>
          </a:xfrm>
        </p:grpSpPr>
        <p:sp>
          <p:nvSpPr>
            <p:cNvPr id="277" name="Line 13"/>
            <p:cNvSpPr/>
            <p:nvPr/>
          </p:nvSpPr>
          <p:spPr>
            <a:xfrm>
              <a:off x="2581200" y="2757600"/>
              <a:ext cx="8100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 flipH="1">
              <a:off x="2662200" y="2757600"/>
              <a:ext cx="528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9" name="Group 18"/>
          <p:cNvGrpSpPr/>
          <p:nvPr/>
        </p:nvGrpSpPr>
        <p:grpSpPr>
          <a:xfrm>
            <a:off x="2657520" y="5576400"/>
            <a:ext cx="1065960" cy="0"/>
            <a:chOff x="2657520" y="5576400"/>
            <a:chExt cx="1065960" cy="0"/>
          </a:xfrm>
        </p:grpSpPr>
        <p:sp>
          <p:nvSpPr>
            <p:cNvPr id="280" name="Line 19"/>
            <p:cNvSpPr/>
            <p:nvPr/>
          </p:nvSpPr>
          <p:spPr>
            <a:xfrm>
              <a:off x="2657520" y="5576400"/>
              <a:ext cx="9684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Line 20"/>
            <p:cNvSpPr/>
            <p:nvPr/>
          </p:nvSpPr>
          <p:spPr>
            <a:xfrm flipH="1">
              <a:off x="2754000" y="5576400"/>
              <a:ext cx="96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2" name="Group 21"/>
          <p:cNvGrpSpPr/>
          <p:nvPr/>
        </p:nvGrpSpPr>
        <p:grpSpPr>
          <a:xfrm>
            <a:off x="1057320" y="2604600"/>
            <a:ext cx="608760" cy="0"/>
            <a:chOff x="1057320" y="2604600"/>
            <a:chExt cx="608760" cy="0"/>
          </a:xfrm>
        </p:grpSpPr>
        <p:sp>
          <p:nvSpPr>
            <p:cNvPr id="283" name="Line 22"/>
            <p:cNvSpPr/>
            <p:nvPr/>
          </p:nvSpPr>
          <p:spPr>
            <a:xfrm>
              <a:off x="1057320" y="2604600"/>
              <a:ext cx="8100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Line 23"/>
            <p:cNvSpPr/>
            <p:nvPr/>
          </p:nvSpPr>
          <p:spPr>
            <a:xfrm flipH="1">
              <a:off x="1137960" y="2604600"/>
              <a:ext cx="528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5" name="Group 30"/>
          <p:cNvGrpSpPr/>
          <p:nvPr/>
        </p:nvGrpSpPr>
        <p:grpSpPr>
          <a:xfrm>
            <a:off x="752040" y="6186600"/>
            <a:ext cx="1371600" cy="0"/>
            <a:chOff x="752040" y="6186600"/>
            <a:chExt cx="1371600" cy="0"/>
          </a:xfrm>
        </p:grpSpPr>
        <p:sp>
          <p:nvSpPr>
            <p:cNvPr id="286" name="Line 24"/>
            <p:cNvSpPr/>
            <p:nvPr/>
          </p:nvSpPr>
          <p:spPr>
            <a:xfrm>
              <a:off x="2080440" y="6186600"/>
              <a:ext cx="4320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26"/>
            <p:cNvSpPr/>
            <p:nvPr/>
          </p:nvSpPr>
          <p:spPr>
            <a:xfrm flipH="1">
              <a:off x="752040" y="6186600"/>
              <a:ext cx="1328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8" name="Group 31"/>
          <p:cNvGrpSpPr/>
          <p:nvPr/>
        </p:nvGrpSpPr>
        <p:grpSpPr>
          <a:xfrm>
            <a:off x="2276640" y="4586400"/>
            <a:ext cx="990360" cy="0"/>
            <a:chOff x="2276640" y="4586400"/>
            <a:chExt cx="990360" cy="0"/>
          </a:xfrm>
        </p:grpSpPr>
        <p:sp>
          <p:nvSpPr>
            <p:cNvPr id="289" name="Line 25"/>
            <p:cNvSpPr/>
            <p:nvPr/>
          </p:nvSpPr>
          <p:spPr>
            <a:xfrm>
              <a:off x="3180960" y="4586400"/>
              <a:ext cx="8604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" name="Group 27"/>
            <p:cNvGrpSpPr/>
            <p:nvPr/>
          </p:nvGrpSpPr>
          <p:grpSpPr>
            <a:xfrm>
              <a:off x="2276640" y="4586400"/>
              <a:ext cx="904320" cy="0"/>
              <a:chOff x="2276640" y="4586400"/>
              <a:chExt cx="904320" cy="0"/>
            </a:xfrm>
          </p:grpSpPr>
          <p:sp>
            <p:nvSpPr>
              <p:cNvPr id="291" name="Line 28"/>
              <p:cNvSpPr/>
              <p:nvPr/>
            </p:nvSpPr>
            <p:spPr>
              <a:xfrm flipH="1">
                <a:off x="2276640" y="4586400"/>
                <a:ext cx="904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" name="Line 29"/>
              <p:cNvSpPr/>
              <p:nvPr/>
            </p:nvSpPr>
            <p:spPr>
              <a:xfrm>
                <a:off x="2276640" y="4586400"/>
                <a:ext cx="32652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93" name="Group 32"/>
          <p:cNvGrpSpPr/>
          <p:nvPr/>
        </p:nvGrpSpPr>
        <p:grpSpPr>
          <a:xfrm>
            <a:off x="1895040" y="852480"/>
            <a:ext cx="991080" cy="0"/>
            <a:chOff x="1895040" y="852480"/>
            <a:chExt cx="991080" cy="0"/>
          </a:xfrm>
        </p:grpSpPr>
        <p:sp>
          <p:nvSpPr>
            <p:cNvPr id="294" name="Line 33"/>
            <p:cNvSpPr/>
            <p:nvPr/>
          </p:nvSpPr>
          <p:spPr>
            <a:xfrm>
              <a:off x="2800080" y="852480"/>
              <a:ext cx="8604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5" name="Group 34"/>
            <p:cNvGrpSpPr/>
            <p:nvPr/>
          </p:nvGrpSpPr>
          <p:grpSpPr>
            <a:xfrm>
              <a:off x="1895040" y="852480"/>
              <a:ext cx="904680" cy="0"/>
              <a:chOff x="1895040" y="852480"/>
              <a:chExt cx="904680" cy="0"/>
            </a:xfrm>
          </p:grpSpPr>
          <p:sp>
            <p:nvSpPr>
              <p:cNvPr id="296" name="Line 35"/>
              <p:cNvSpPr/>
              <p:nvPr/>
            </p:nvSpPr>
            <p:spPr>
              <a:xfrm flipH="1">
                <a:off x="1895040" y="852480"/>
                <a:ext cx="904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Line 36"/>
              <p:cNvSpPr/>
              <p:nvPr/>
            </p:nvSpPr>
            <p:spPr>
              <a:xfrm>
                <a:off x="1895400" y="852480"/>
                <a:ext cx="326520" cy="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Step 7. Hybridization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Rectangle 39"/>
          <p:cNvSpPr/>
          <p:nvPr/>
        </p:nvSpPr>
        <p:spPr>
          <a:xfrm>
            <a:off x="1143000" y="1219320"/>
            <a:ext cx="243828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55556E-006 C -0.00503 -0.00439 -0.00955 -0.00717 -0.01389 -0.01295 C -0.01493 -0.01712 -0.01476 -0.02221 -0.01667 -0.02592 C -0.02101 -0.03402 -0.02986 -0.03564 -0.03611 -0.03888 C -0.04774 -0.04467 -0.05851 -0.0486 -0.07083 -0.05184 C -0.07917 -0.05115 -0.08889 -0.05439 -0.09583 -0.04814 C -0.09792 -0.04629 -0.10173 -0.04027 -0.10278 -0.03703 C -0.10399 -0.03356 -0.10555 -0.02592 -0.10555 -0.02592 C -0.10503 -0.01666 -0.10521 -0.0074 -0.10417 0.00186 C -0.10382 0.0058 -0.10226 0.00927 -0.10139 0.01297 C -0.10087 0.01482 -0.1 0.01853 -0.1 0.01853 C -0.10052 0.02293 -0.10017 0.02732 -0.10139 0.03149 C -0.10521 0.04422 -0.14149 0.04237 -0.14583 0.0426 C -0.1526 0.04468 -0.15746 0.04908 -0.16389 0.05186 C -0.16788 0.05695 -0.17239 0.06135 -0.17639 0.06668 C -0.18246 0.09098 -0.18142 0.11668 -0.1875 0.14075 C -0.18993 0.1507 -0.19062 0.16205 -0.19583 0.17038 C -0.20208 0.18033 -0.21042 0.18867 -0.21528 0.20001 C -0.21736 0.20487 -0.21944 0.2095 -0.22083 0.21482 C -0.2217 0.21853 -0.22361 0.22593 -0.22361 0.22593 C -0.22535 0.25418 -0.2276 0.26737 -0.22083 0.29445 C -0.21875 0.30256 -0.21146 0.30904 -0.20555 0.31112 C -0.20191 0.31251 -0.19444 0.31482 -0.19444 0.31482 C -0.18142 0.31413 -0.16858 0.31413 -0.15555 0.31297 C -0.15 0.31251 -0.14635 0.30441 -0.14305 0.30001 C -0.13542 0.28982 -0.12726 0.27848 -0.12083 0.26668 C -0.11163 0.24955 -0.12465 0.26806 -0.11389 0.25371 C -0.10608 0.22779 -0.11614 0.25603 -0.10694 0.24075 C -0.10608 0.23913 -0.10625 0.23681 -0.10555 0.23519 C -0.0993 0.22015 -0.09427 0.21343 -0.08194 0.20927 C -0.06788 0.21112 -0.05382 0.21621 -0.04028 0.22223 C -0.03333 0.23149 -0.02344 0.24399 -0.01389 0.24816 C -0.01024 0.24978 0.00695 0.25163 0.00833 0.25186 C 0.02292 0.25047 0.02899 0.25001 0.04167 0.24445 C 0.04479 0.24306 0.04722 0.23959 0.05 0.23705 C 0.05139 0.23589 0.05417 0.23334 0.05417 0.23334 C 0.05868 0.21506 0.05104 0.24306 0.05972 0.22223 C 0.06111 0.21876 0.06111 0.21459 0.0625 0.21112 C 0.06476 0.2051 0.06736 0.19862 0.06945 0.1926 C 0.07205 0.18496 0.07344 0.17756 0.07639 0.17038 C 0.07795 0.16644 0.07952 0.16251 0.08195 0.15927 C 0.08333 0.15742 0.0849 0.1558 0.08611 0.15371 C 0.09254 0.14168 0.0849 0.15001 0.09306 0.1426 C 0.09705 0.1345 0.09879 0.12756 0.10417 0.12038 C 0.10608 0.11297 0.10781 0.10556 0.10972 0.09816 C 0.11059 0.09445 0.1125 0.08705 0.1125 0.08705 C 0.11146 0.07038 0.1099 0.0551 0.10695 0.0389 C 0.10538 0.0308 0.10278 0.02293 0.10139 0.01482 C 0.09948 0.00371 0.09913 -0.0074 0.09722 -0.01851 C 0.09583 -0.02731 0.09323 -0.03564 0.09167 -0.04444 C 0.08924 -0.05763 0.08802 -0.07453 0.08333 -0.08703 C 0.07674 -0.10462 0.07899 -0.09166 0.07639 -0.10369 C 0.0717 -0.12522 0.06702 -0.14675 0.0625 -0.16851 C 0.06024 -0.17962 0.05903 -0.19212 0.05417 -0.20184 C 0.04358 -0.22314 0.02639 -0.23309 0.00833 -0.23703 C 0.00243 -0.2368 -0.0276 -0.23888 -0.03889 -0.23147 C -0.04479 -0.22754 -0.05 -0.22337 -0.05555 -0.21851 C -0.05694 -0.21735 -0.05972 -0.21481 -0.05972 -0.21481 C -0.06285 -0.20832 -0.06597 -0.20416 -0.07083 -0.19999 C -0.07274 -0.19629 -0.07535 -0.19305 -0.07639 -0.18888 C -0.07691 -0.18703 -0.07708 -0.18494 -0.07778 -0.18332 C -0.07934 -0.17939 -0.08142 -0.17592 -0.08333 -0.17221 C -0.0842 -0.17036 -0.08611 -0.16666 -0.08611 -0.16666 C -0.08941 -0.14907 -0.09601 -0.13425 -0.09861 -0.11666 C -0.09757 -0.10832 -0.09496 -0.09073 -0.08611 -0.09073 E">
                                      <p:cBhvr>
                                        <p:cTn id="272" dur="5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-0.00053 0.00671 -0.00139 0.01366 -0.00139 0.02037 C -0.00139 0.0338 0.02204 0.04815 0.03055 0.05185 C 0.03697 0.06042 0.04201 0.07384 0.04583 0.08519 C 0.04704 0.08866 0.04774 0.09259 0.04861 0.0963 C 0.04913 0.09815 0.05 0.10185 0.05 0.10185 C 0.04947 0.10741 0.05 0.1132 0.04861 0.11852 C 0.04774 0.12153 0.03871 0.12477 0.03611 0.12593 C 0.02725 0.12986 0.01892 0.13565 0.01111 0.14259 C 0.00451 0.14838 0.0085 0.1456 -0.00139 0.15 C -0.00417 0.15116 -0.00973 0.1537 -0.00973 0.1537 C -0.01112 0.15556 -0.01303 0.15695 -0.01389 0.15926 C -0.01528 0.16273 -0.01667 0.17037 -0.01667 0.17037 C -0.01563 0.17616 -0.01459 0.18171 -0.0125 0.18704 E">
                                      <p:cBhvr>
                                        <p:cTn id="274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55556E-006 C 0.00208 0.00834 -0.00139 0.00996 -0.00556 0.01667 C -0.01198 0.02686 -0.00695 0.01899 -0.01389 0.02408 C -0.0224 0.03033 -0.02952 0.04028 -0.03889 0.04445 C -0.03976 0.0463 -0.04046 0.04839 -0.04167 0.05001 C -0.04289 0.05163 -0.04497 0.05186 -0.04584 0.05371 C -0.04948 0.06135 -0.05105 0.07431 -0.05278 0.08334 C -0.05226 0.09561 -0.05243 0.10811 -0.05139 0.12038 C -0.0507 0.12894 -0.04653 0.13982 -0.04445 0.14815 C -0.04341 0.15232 -0.0408 0.15556 -0.03889 0.15927 C -0.03803 0.16112 -0.0375 0.16366 -0.03612 0.16482 C -0.03334 0.16737 -0.02778 0.17223 -0.02778 0.17223 C -0.02014 0.18751 -0.02101 0.18241 -0.00973 0.19075 C -0.00539 0.19399 0.00173 0.20209 0.00694 0.20371 C 0.02361 0.20927 0.04253 0.20741 0.05972 0.20927 C 0.0684 0.21158 0.08611 0.21482 0.08611 0.21482 C 0.10017 0.22107 0.07847 0.21158 0.09583 0.21853 C 0.09861 0.21968 0.10416 0.22223 0.10416 0.22223 C 0.11007 0.2301 0.11545 0.23936 0.11805 0.25001 C 0.11579 0.26783 0.11597 0.26922 0.10416 0.27964 C 0.10173 0.28172 0.09826 0.28126 0.09583 0.28334 C 0.09305 0.28589 0.0875 0.29075 0.0875 0.29075 C 0.08316 0.29954 0.08524 0.29422 0.08194 0.30741 C 0.08107 0.31112 0.07916 0.31853 0.07916 0.31853 C 0.07968 0.32778 0.07916 0.33728 0.08055 0.3463 C 0.08385 0.3669 0.08697 0.34167 0.08333 0.36112 C 0.0842 0.36482 0.08524 0.36853 0.08611 0.37223 C 0.08663 0.37408 0.08055 0.36945 0.08194 0.37038 C 0.08923 0.37524 0.08888 0.37061 0.08888 0.37593 E">
                                      <p:cBhvr>
                                        <p:cTn id="276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C -0.00468 0.00926 -0.0092 0.01852 -0.01388 0.02778 C -0.01649 0.03287 -0.01684 0.03935 -0.01944 0.04445 C -0.02343 0.07107 -0.02968 0.09815 -0.03611 0.12407 C -0.04045 0.1412 -0.04288 0.1588 -0.04722 0.17593 C -0.04947 0.18472 -0.05954 0.2007 -0.06388 0.20926 C -0.06475 0.21088 -0.06458 0.21296 -0.06527 0.21482 C -0.06805 0.22222 -0.07118 0.22963 -0.07361 0.23704 C -0.0802 0.25695 -0.07291 0.2412 -0.07916 0.2537 C -0.07968 0.25648 -0.08194 0.26806 -0.08194 0.27037 C -0.08194 0.27847 -0.08142 0.28657 -0.08055 0.29445 C -0.07534 0.33889 -0.04201 0.34051 -0.01666 0.35185 C 0.00365 0.36088 0.02466 0.36713 0.04584 0.37037 C 0.06198 0.3757 0.07934 0.37894 0.09584 0.38148 C 0.11042 0.37986 0.11546 0.38125 0.125 0.36852 C 0.12691 0.36088 0.13004 0.35671 0.13334 0.35 C 0.14132 0.3331 0.14948 0.3162 0.15556 0.29815 C 0.15869 0.28889 0.16042 0.27824 0.1625 0.26852 C 0.16389 0.26227 0.16441 0.25486 0.16806 0.25 C 0.17205 0.24468 0.17188 0.24745 0.17639 0.24445 C 0.1849 0.23866 0.19358 0.23519 0.20278 0.23148 C 0.20973 0.2287 0.21667 0.22523 0.22362 0.22222 C 0.22934 0.21968 0.23438 0.21366 0.24028 0.21111 C 0.24896 0.19954 0.26268 0.19468 0.27084 0.18148 C 0.2783 0.16945 0.27969 0.14792 0.28334 0.13333 C 0.28316 0.12732 0.28299 0.09352 0.28056 0.07963 C 0.27744 0.06181 0.27934 0.07431 0.275 0.06296 C 0.26754 0.04306 0.26025 0.02431 0.24306 0.01667 C 0.23872 0.01088 0.23525 0.01019 0.23056 0.00556 C 0.21945 -0.00509 0.20643 -0.01412 0.19306 -0.01852 C 0.18924 -0.02199 0.18473 -0.02523 0.18056 -0.02778 C 0.17622 -0.03032 0.16806 -0.03148 0.16389 -0.03518 C 0.15816 -0.04028 0.16129 -0.03843 0.15417 -0.04074 C 0.14688 -0.04722 0.14028 -0.05463 0.13334 -0.06111 C 0.13247 -0.06296 0.13178 -0.06505 0.13056 -0.06667 C 0.1257 -0.07315 0.12639 -0.0669 0.12639 -0.07407 E">
                                      <p:cBhvr>
                                        <p:cTn id="278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2963E-006 C -0.0165 0.03286 -0.05122 0.01527 -0.07362 0.03518 C -0.08316 0.05416 -0.10816 0.07407 -0.125 0.08147 C -0.12813 0.08286 -0.13004 0.08772 -0.13334 0.08888 C -0.13525 0.08958 -0.13698 0.09004 -0.13889 0.09073 C -0.14167 0.09189 -0.14445 0.09328 -0.14723 0.09444 C -0.14862 0.09513 -0.15139 0.09629 -0.15139 0.09629 C -0.15955 0.09536 -0.16841 0.09652 -0.175 0.08888 C -0.17796 0.08541 -0.18334 0.07777 -0.18334 0.07777 C -0.18507 0.07106 -0.18733 0.06527 -0.19028 0.05925 C -0.19167 0.04976 -0.19358 0.0405 -0.19584 0.03147 C -0.19532 0.01851 -0.19566 0.00555 -0.19445 -0.00742 C -0.19358 -0.01714 -0.17848 -0.02871 -0.17223 -0.03149 C -0.15382 -0.02871 -0.13733 -0.01899 -0.11945 -0.01297 C -0.11025 -0.01367 -0.10087 -0.01367 -0.09167 -0.01482 C -0.08351 -0.01575 -0.07257 -0.02917 -0.06667 -0.03705 C -0.0632 -0.05117 -0.06389 -0.04422 -0.06389 -0.05742 E">
                                      <p:cBhvr>
                                        <p:cTn id="2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C -0.00243 -0.01644 -0.00694 -0.03194 -0.00972 -0.04815 C -0.01423 -0.07477 -0.01059 -0.0588 -0.01389 -0.07222 C -0.01233 -0.10231 -0.00764 -0.12662 0.00139 -0.1537 C 0.00556 -0.1662 0.00868 -0.17616 0.01667 -0.18519 C 0.01823 -0.18681 0.0191 -0.18958 0.02083 -0.19074 C 0.03386 -0.20046 0.05104 -0.20231 0.06528 -0.2037 C 0.10104 -0.20093 0.13681 -0.20301 0.17222 -0.1963 C 0.18386 -0.19699 0.19549 -0.19676 0.20695 -0.19815 C 0.22274 -0.20023 0.23594 -0.22523 0.25 -0.23148 C 0.25139 -0.23333 0.25313 -0.23495 0.25417 -0.23704 C 0.25504 -0.23866 0.25469 -0.24097 0.25556 -0.24259 C 0.25799 -0.24676 0.26111 -0.25 0.26389 -0.2537 C 0.26528 -0.25556 0.26806 -0.25926 0.26806 -0.25926 C 0.27136 -0.27014 0.27587 -0.27986 0.27917 -0.29074 C 0.28247 -0.30162 0.28333 -0.31296 0.28611 -0.32407 C 0.28663 -0.32639 0.28681 -0.32917 0.2875 -0.33148 C 0.2882 -0.33403 0.28958 -0.33634 0.29028 -0.33889 C 0.29132 -0.34259 0.29306 -0.35 0.29306 -0.35 C 0.29184 -0.37778 0.29306 -0.41412 0.27361 -0.43148 C 0.26389 -0.45093 0.23802 -0.45347 0.22222 -0.45556 C 0.19827 -0.46366 0.17188 -0.4625 0.14722 -0.46667 C 0.12986 -0.47431 0.1125 -0.48218 0.09445 -0.48704 C 0.0842 -0.48634 0.07361 -0.48889 0.06389 -0.48519 C 0.06389 -0.48519 0.06042 -0.4713 0.05972 -0.46852 C 0.0592 -0.46667 0.05833 -0.46296 0.05833 -0.46296 C 0.06163 -0.44954 0.0658 -0.43403 0.075 -0.42593 C 0.07691 -0.41852 0.07847 -0.41551 0.08333 -0.41111 C 0.08698 -0.40394 0.08993 -0.39676 0.09445 -0.39074 E">
                                      <p:cBhvr>
                                        <p:cTn id="282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55556E-006 C 0.01598 -0.00717 0.025 -0.02407 0.03612 -0.03888 C 0.04271 -0.04768 0.05018 -0.05578 0.05695 -0.06481 C 0.06077 -0.0699 0.06355 -0.07546 0.06806 -0.07962 C 0.07292 -0.08958 0.075 -0.10161 0.07778 -0.11296 C 0.08369 -0.1368 0.08855 -0.16134 0.09445 -0.18518 C 0.09671 -0.21597 0.09445 -0.24768 0.1 -0.27777 C 0.10469 -0.303 0.11129 -0.32685 0.11667 -0.35185 C 0.1191 -0.36342 0.11928 -0.37546 0.12223 -0.38703 C 0.12518 -0.41388 0.125 -0.43425 0.12362 -0.46296 C 0.12275 -0.48148 0.11719 -0.49444 0.10973 -0.50925 C 0.10313 -0.52268 0.09462 -0.5331 0.08612 -0.54444 C 0.08125 -0.55092 0.08577 -0.54976 0.07917 -0.5537 C 0.04671 -0.57291 0.00973 -0.57569 -0.025 -0.57962 C -0.02864 -0.58009 -0.03246 -0.58124 -0.03611 -0.58148 C -0.04583 -0.5824 -0.05555 -0.58263 -0.06527 -0.58333 C -0.07552 -0.58263 -0.08576 -0.58286 -0.09583 -0.58148 C -0.09583 -0.58148 -0.10972 -0.57685 -0.1125 -0.57592 C -0.12309 -0.57245 -0.13628 -0.57199 -0.14722 -0.57036 C -0.15798 -0.56666 -0.1684 -0.56111 -0.17916 -0.5574 C -0.18229 -0.55648 -0.19097 -0.5537 -0.19305 -0.55185 C -0.19774 -0.54768 -0.20555 -0.53703 -0.20555 -0.53703 C -0.20607 -0.53518 -0.20625 -0.53333 -0.20694 -0.53148 C -0.20763 -0.52939 -0.20902 -0.528 -0.20972 -0.52592 C -0.21093 -0.52245 -0.2125 -0.51481 -0.2125 -0.51481 C -0.2118 -0.49166 -0.2125 -0.47615 -0.20972 -0.45555 C -0.20868 -0.44791 -0.20642 -0.44374 -0.20416 -0.43703 C -0.19913 -0.42175 -0.19548 -0.39976 -0.1875 -0.38703 C -0.18142 -0.37731 -0.17482 -0.37013 -0.16805 -0.36111 C -0.1625 -0.3537 -0.15659 -0.34004 -0.15 -0.33703 C -0.14461 -0.32615 -0.13836 -0.3199 -0.13055 -0.31296 C -0.12777 -0.31041 -0.12222 -0.30555 -0.12222 -0.30555 C -0.11909 -0.29907 -0.11597 -0.2949 -0.11111 -0.29074 C -0.10677 -0.28194 -0.10138 -0.28217 -0.09583 -0.27592 C -0.08281 -0.26134 -0.10434 -0.28171 -0.08333 -0.26296 C -0.07864 -0.25879 -0.06493 -0.25532 -0.05972 -0.2537 C -0.05069 -0.25069 -0.04131 -0.24536 -0.03194 -0.24467 C -0.02274 -0.24374 -0.01336 -0.24351 -0.00416 -0.24259 C 0.00087 -0.24212 0.00608 -0.24143 0.01112 -0.24074 C 0.02309 -0.23749 0.03525 -0.23564 0.04723 -0.23333 C 0.05504 -0.23194 0.0632 -0.22708 0.07084 -0.2243 C 0.07848 -0.22106 0.08473 -0.21712 0.09167 -0.21296 C 0.09428 -0.21134 0.1 -0.20925 0.1 -0.20925 C 0.10139 -0.2074 0.10261 -0.20532 0.10417 -0.20393 C 0.10678 -0.20092 0.1125 -0.19629 0.1125 -0.19629 C 0.1349 -0.15161 0.13716 -0.10324 0.14028 -0.04999 C 0.13872 -0.02175 0.13837 0.00741 0.12639 0.03149 C 0.12275 0.03866 0.11042 0.04051 0.10417 0.0426 C 0.08542 0.04005 0.06841 0.03079 0.05 0.02593 C 0.04167 0.02362 0.03004 0.02292 0.02223 0.02223 C 0.01476 0.02315 0.0033 0.02292 -0.00416 0.02778 C -0.00694 0.02964 -0.00972 0.03126 -0.0125 0.03334 C -0.01545 0.03542 -0.02083 0.04075 -0.02083 0.04075 C -0.02517 0.04954 -0.02309 0.04422 -0.02638 0.05741 C -0.02691 0.05926 -0.02777 0.06297 -0.02777 0.06297 C -0.02621 0.07547 -0.0276 0.07061 -0.025 0.07778 E">
                                      <p:cBhvr>
                                        <p:cTn id="284" dur="5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7. Hybridizat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Rectangle 51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3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54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4" name="Group 298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305" name="Group 145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306" name="Line 55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Line 57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Line 58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Line 59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Line 60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Line 61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Line 62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Line 63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Line 64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Line 65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Line 66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Line 67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Line 68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" name="Line 69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Line 70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Line 71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Line 72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Line 73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Line 74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Line 75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Line 76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Line 77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Line 78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Line 79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Line 80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Line 81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Line 82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Line 83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5" name="Group 146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336" name="Line 86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Line 87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Line 88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Line 89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Line 90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Line 91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Line 92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Line 93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Line 94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Line 95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Line 96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Line 97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98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Line 99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Line 100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101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102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103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Line 104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Line 105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Line 106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Line 107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Line 108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Line 109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" name="Line 110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" name="Line 111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Line 112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Line 113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Line 114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5" name="Group 144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366" name="Line 115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Line 116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17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18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Line 119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20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Line 121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Line 122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" name="Line 123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Line 124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Line 125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Line 126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Line 127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Line 128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Line 129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Line 130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Line 131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3" name="Line 132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4" name="Line 133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" name="Line 134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" name="Line 135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7" name="Line 136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" name="Line 137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" name="Line 138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0" name="Line 139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1" name="Line 140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Line 141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Line 142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4" name="Line 143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5" name="Line 148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149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Line 150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Line 151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152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Line 153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Line 154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5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56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57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58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59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60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61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2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Line 163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Line 164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Line 165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166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Line 167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Line 168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Line 169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Line 170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Line 171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Line 172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Line 173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Line 174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Line 175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Line 176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Line 217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218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219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Line 220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Line 221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Line 222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Line 223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Line 224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Line 225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226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227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Line 228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229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230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231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232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233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234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235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236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37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Line 238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Line 239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240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241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Line 242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243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244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245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246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Line 247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Line 248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Line 249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250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Line 251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Line 252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258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Line 262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Line 263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Line 264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Line 265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Line 266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Line 267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Line 268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269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270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271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Line 272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Line 273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Line 274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Line 275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Line 276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6" name="Group 279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477" name="Line 253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" name="Line 254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" name="Line 255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" name="Line 256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Line 257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" name="Line 259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" name="Line 260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4" name="Line 261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5" name="Line 27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86" name="Group 297"/>
          <p:cNvGrpSpPr/>
          <p:nvPr/>
        </p:nvGrpSpPr>
        <p:grpSpPr>
          <a:xfrm>
            <a:off x="7086600" y="4007520"/>
            <a:ext cx="1066680" cy="487800"/>
            <a:chOff x="7086600" y="4007520"/>
            <a:chExt cx="1066680" cy="487800"/>
          </a:xfrm>
        </p:grpSpPr>
        <p:grpSp>
          <p:nvGrpSpPr>
            <p:cNvPr id="487" name="Group 280"/>
            <p:cNvGrpSpPr/>
            <p:nvPr/>
          </p:nvGrpSpPr>
          <p:grpSpPr>
            <a:xfrm>
              <a:off x="7086600" y="4343040"/>
              <a:ext cx="1066680" cy="152280"/>
              <a:chOff x="7086600" y="4343040"/>
              <a:chExt cx="1066680" cy="152280"/>
            </a:xfrm>
          </p:grpSpPr>
          <p:sp>
            <p:nvSpPr>
              <p:cNvPr id="488" name="Line 281"/>
              <p:cNvSpPr/>
              <p:nvPr/>
            </p:nvSpPr>
            <p:spPr>
              <a:xfrm flipV="1">
                <a:off x="708660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9" name="Line 282"/>
              <p:cNvSpPr/>
              <p:nvPr/>
            </p:nvSpPr>
            <p:spPr>
              <a:xfrm flipV="1">
                <a:off x="723888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0" name="Line 283"/>
              <p:cNvSpPr/>
              <p:nvPr/>
            </p:nvSpPr>
            <p:spPr>
              <a:xfrm flipV="1">
                <a:off x="739116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1" name="Line 284"/>
              <p:cNvSpPr/>
              <p:nvPr/>
            </p:nvSpPr>
            <p:spPr>
              <a:xfrm flipV="1">
                <a:off x="754344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2" name="Line 285"/>
              <p:cNvSpPr/>
              <p:nvPr/>
            </p:nvSpPr>
            <p:spPr>
              <a:xfrm flipV="1">
                <a:off x="769608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" name="Line 286"/>
              <p:cNvSpPr/>
              <p:nvPr/>
            </p:nvSpPr>
            <p:spPr>
              <a:xfrm flipV="1">
                <a:off x="784836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" name="Line 287"/>
              <p:cNvSpPr/>
              <p:nvPr/>
            </p:nvSpPr>
            <p:spPr>
              <a:xfrm flipV="1">
                <a:off x="800064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5" name="Line 288"/>
              <p:cNvSpPr/>
              <p:nvPr/>
            </p:nvSpPr>
            <p:spPr>
              <a:xfrm flipV="1">
                <a:off x="8153280" y="4343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" name="Line 289"/>
              <p:cNvSpPr/>
              <p:nvPr/>
            </p:nvSpPr>
            <p:spPr>
              <a:xfrm>
                <a:off x="7086600" y="4343040"/>
                <a:ext cx="1066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97" name="Line 290"/>
            <p:cNvSpPr/>
            <p:nvPr/>
          </p:nvSpPr>
          <p:spPr>
            <a:xfrm flipV="1">
              <a:off x="7238880" y="4190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Line 291"/>
            <p:cNvSpPr/>
            <p:nvPr/>
          </p:nvSpPr>
          <p:spPr>
            <a:xfrm flipV="1">
              <a:off x="7543440" y="4190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Line 292"/>
            <p:cNvSpPr/>
            <p:nvPr/>
          </p:nvSpPr>
          <p:spPr>
            <a:xfrm flipV="1">
              <a:off x="8000640" y="4190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Rectangle 294"/>
            <p:cNvSpPr/>
            <p:nvPr/>
          </p:nvSpPr>
          <p:spPr>
            <a:xfrm rot="3057600">
              <a:off x="7162200" y="40384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Rectangle 295"/>
            <p:cNvSpPr/>
            <p:nvPr/>
          </p:nvSpPr>
          <p:spPr>
            <a:xfrm rot="3057600">
              <a:off x="7467120" y="40384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Rectangle 296"/>
            <p:cNvSpPr/>
            <p:nvPr/>
          </p:nvSpPr>
          <p:spPr>
            <a:xfrm rot="3057600">
              <a:off x="7924320" y="40384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972 C 0.00677 -0.01991 0.00955 -0.02963 0.01216 -0.03958 C 0.01355 -0.04491 0.01528 -0.05578 0.01528 -0.05555 C 0.0165 -0.07546 0.01823 -0.09491 0.02014 -0.11481 C 0.0198 -0.12754 0.02275 -0.19815 0.0073 -0.2162 C 0.00278 -0.23356 -0.0118 -0.25208 -0.02604 -0.25764 C -0.03211 -0.26574 -0.03958 -0.26805 -0.04826 -0.27153 C -0.06857 -0.27963 -0.08871 -0.28518 -0.10989 -0.28727 C -0.11944 -0.2868 -0.12916 -0.2868 -0.13854 -0.28518 C -0.14774 -0.28403 -0.15416 -0.27708 -0.16232 -0.27338 C -0.171 -0.25717 -0.1592 -0.27754 -0.17031 -0.26389 C -0.17534 -0.25741 -0.17187 -0.25903 -0.175 -0.25185 C -0.17691 -0.24768 -0.18142 -0.24004 -0.18142 -0.23981 C -0.18507 -0.22592 -0.18264 -0.23171 -0.18767 -0.22222 C -0.18819 -0.21875 -0.18663 -0.21111 -0.18923 -0.2125 C -0.19218 -0.21342 -0.19132 -0.22037 -0.19236 -0.22407 C -0.19323 -0.22639 -0.19461 -0.22801 -0.19566 -0.22986 C -0.19861 -0.24143 -0.19496 -0.23171 -0.20173 -0.24004 C -0.20312 -0.24166 -0.20364 -0.24421 -0.2052 -0.2456 C -0.20816 -0.24884 -0.21458 -0.2537 -0.21458 -0.25347 C -0.21562 -0.25578 -0.21909 -0.2625 -0.221 -0.26389 C -0.22378 -0.26551 -0.22777 -0.26528 -0.23055 -0.26759 C -0.23628 -0.27268 -0.24288 -0.275 -0.24965 -0.27754 C -0.26198 -0.28773 -0.2743 -0.28264 -0.28906 -0.28125 C -0.30208 -0.27754 -0.30312 -0.27384 -0.31284 -0.2618 C -0.31545 -0.25879 -0.32083 -0.25185 -0.32083 -0.25162 C -0.32135 -0.25 -0.32152 -0.24745 -0.32239 -0.2456 C -0.32326 -0.24421 -0.325 -0.24352 -0.32569 -0.24166 C -0.32951 -0.23241 -0.33142 -0.2206 -0.3335 -0.21018 C -0.33507 -0.22731 -0.33767 -0.24768 -0.34618 -0.2618 C -0.35173 -0.27106 -0.35208 -0.27592 -0.36041 -0.27963 C -0.37135 -0.28842 -0.36649 -0.28565 -0.37482 -0.28912 C -0.39583 -0.28819 -0.40625 -0.28889 -0.42378 -0.28125 C -0.42795 -0.27639 -0.43142 -0.27361 -0.43663 -0.27153 C -0.44305 -0.25972 -0.43593 -0.27014 -0.44461 -0.26389 C -0.44895 -0.26041 -0.45052 -0.25416 -0.45555 -0.25 C -0.45989 -0.23333 -0.45399 -0.25301 -0.46041 -0.24004 C -0.46753 -0.22546 -0.45607 -0.24166 -0.46527 -0.22986 C -0.47066 -0.20926 -0.4618 -0.24074 -0.46996 -0.21782 C -0.47378 -0.20764 -0.4743 -0.19051 -0.48107 -0.18241 C -0.48472 -0.16852 -0.48715 -0.16921 -0.47934 -0.17245 C -0.45989 -0.18866 -0.44461 -0.1956 -0.42083 -0.19838 C -0.4118 -0.19768 -0.40277 -0.19745 -0.39375 -0.19606 C -0.38003 -0.19467 -0.36111 -0.18611 -0.34791 -0.18032 C -0.34184 -0.17291 -0.346 -0.17778 -0.33507 -0.16852 C -0.3335 -0.16736 -0.33038 -0.16458 -0.33038 -0.16435 C -0.3283 -0.16088 -0.32552 -0.15856 -0.32395 -0.15486 C -0.321 -0.14722 -0.31927 -0.13703 -0.3177 -0.12893 C -0.31475 -0.13148 -0.31284 -0.13518 -0.30972 -0.13703 C -0.30677 -0.13889 -0.30017 -0.14097 -0.30017 -0.14074 C -0.28628 -0.13935 -0.27777 -0.13773 -0.26527 -0.13287 C -0.25989 -0.12616 -0.25416 -0.12291 -0.24791 -0.11875 C -0.24114 -0.11389 -0.2368 -0.10856 -0.23055 -0.10301 C -0.22708 -0.09699 -0.2243 -0.09375 -0.21944 -0.08935 C -0.2184 -0.08727 -0.21753 -0.08518 -0.21632 -0.08333 C -0.2151 -0.08171 -0.21371 -0.08055 -0.21284 -0.07916 C -0.21076 -0.07523 -0.20677 -0.06736 -0.20677 -0.06713 C -0.20121 -0.04722 -0.19652 -0.02592 -0.19062 -0.00602 C -0.18854 0.02338 -0.1835 0.05209 -0.18142 0.08172 C -0.17847 0.0713 -0.17916 0.07732 -0.18298 0.06343 C -0.18593 0.05232 -0.18732 0.03797 -0.19409 0.0294 C -0.19757 0.0169 -0.20764 0.0044 -0.21788 -2.22222E-006 C -0.23038 -0.01041 -0.24705 -0.00555 -0.26076 -2.22222E-006 C -0.26302 0.00301 -0.26632 0.00486 -0.2684 0.00787 C -0.26944 0.00972 -0.26927 0.01227 -0.27014 0.01389 C -0.271 0.01528 -0.27239 0.01667 -0.27343 0.01806 C -0.27534 0.0257 -0.27743 0.0338 -0.27951 0.04167 C -0.28003 0.04352 -0.28073 0.0456 -0.28125 0.04792 C -0.28177 0.04954 -0.28281 0.05347 -0.28281 0.05371 C -0.28628 0.02685 -0.29114 -0.00879 -0.30503 -0.02963 C -0.30972 -0.0368 -0.31198 -0.04259 -0.31927 -0.0456 C -0.32621 -0.0544 -0.32205 -0.05092 -0.3335 -0.05578 C -0.33507 -0.05625 -0.33836 -0.05741 -0.33836 -0.05717 C -0.35642 -0.05671 -0.3743 -0.05648 -0.39218 -0.05578 C -0.40208 -0.05509 -0.40486 -0.05463 -0.41284 -0.05162 C -0.4158 -0.05046 -0.42239 -0.04768 -0.42239 -0.04745 C -0.42586 -0.04328 -0.42986 -0.04004 -0.4335 -0.03565 C -0.43402 -0.03356 -0.4342 -0.03148 -0.43489 -0.02963 C -0.43576 -0.02824 -0.4375 -0.02778 -0.43819 -0.02569 C -0.43975 -0.02222 -0.44132 -0.01389 -0.44132 -0.01366 C -0.43871 0.01158 -0.4335 0.03102 -0.4335 0.05741 E">
                                      <p:cBhvr>
                                        <p:cTn id="303" dur="5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8. Wash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508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509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7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38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539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1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1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8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569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7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8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9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0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98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9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680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89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690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691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4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5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6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7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8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9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0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205"/>
          <p:cNvGrpSpPr/>
          <p:nvPr/>
        </p:nvGrpSpPr>
        <p:grpSpPr>
          <a:xfrm>
            <a:off x="7345440" y="2423160"/>
            <a:ext cx="1093680" cy="774000"/>
            <a:chOff x="7345440" y="2423160"/>
            <a:chExt cx="1093680" cy="774000"/>
          </a:xfrm>
        </p:grpSpPr>
        <p:grpSp>
          <p:nvGrpSpPr>
            <p:cNvPr id="707" name="Group 206"/>
            <p:cNvGrpSpPr/>
            <p:nvPr/>
          </p:nvGrpSpPr>
          <p:grpSpPr>
            <a:xfrm>
              <a:off x="7345440" y="2423160"/>
              <a:ext cx="1054440" cy="506880"/>
              <a:chOff x="7345440" y="2423160"/>
              <a:chExt cx="1054440" cy="506880"/>
            </a:xfrm>
          </p:grpSpPr>
          <p:sp>
            <p:nvSpPr>
              <p:cNvPr id="708" name="Line 207"/>
              <p:cNvSpPr/>
              <p:nvPr/>
            </p:nvSpPr>
            <p:spPr>
              <a:xfrm>
                <a:off x="8348040" y="2423160"/>
                <a:ext cx="5184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Line 208"/>
              <p:cNvSpPr/>
              <p:nvPr/>
            </p:nvSpPr>
            <p:spPr>
              <a:xfrm>
                <a:off x="8204760" y="2475000"/>
                <a:ext cx="52200" cy="14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Line 209"/>
              <p:cNvSpPr/>
              <p:nvPr/>
            </p:nvSpPr>
            <p:spPr>
              <a:xfrm>
                <a:off x="8061840" y="2526840"/>
                <a:ext cx="51840" cy="14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Line 210"/>
              <p:cNvSpPr/>
              <p:nvPr/>
            </p:nvSpPr>
            <p:spPr>
              <a:xfrm>
                <a:off x="7918560" y="2579040"/>
                <a:ext cx="5184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Line 211"/>
              <p:cNvSpPr/>
              <p:nvPr/>
            </p:nvSpPr>
            <p:spPr>
              <a:xfrm>
                <a:off x="7774920" y="2630880"/>
                <a:ext cx="52200" cy="14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Line 212"/>
              <p:cNvSpPr/>
              <p:nvPr/>
            </p:nvSpPr>
            <p:spPr>
              <a:xfrm>
                <a:off x="7632000" y="2683080"/>
                <a:ext cx="5184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Line 213"/>
              <p:cNvSpPr/>
              <p:nvPr/>
            </p:nvSpPr>
            <p:spPr>
              <a:xfrm>
                <a:off x="7488720" y="2734920"/>
                <a:ext cx="51840" cy="143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5" name="Line 214"/>
              <p:cNvSpPr/>
              <p:nvPr/>
            </p:nvSpPr>
            <p:spPr>
              <a:xfrm>
                <a:off x="7345440" y="2787120"/>
                <a:ext cx="5184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6" name="Line 215"/>
              <p:cNvSpPr/>
              <p:nvPr/>
            </p:nvSpPr>
            <p:spPr>
              <a:xfrm flipH="1">
                <a:off x="7397280" y="2566080"/>
                <a:ext cx="1002600" cy="363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17" name="Line 216"/>
            <p:cNvSpPr/>
            <p:nvPr/>
          </p:nvSpPr>
          <p:spPr>
            <a:xfrm>
              <a:off x="8256600" y="2617920"/>
              <a:ext cx="522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Line 217"/>
            <p:cNvSpPr/>
            <p:nvPr/>
          </p:nvSpPr>
          <p:spPr>
            <a:xfrm>
              <a:off x="7970400" y="2721600"/>
              <a:ext cx="522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Line 218"/>
            <p:cNvSpPr/>
            <p:nvPr/>
          </p:nvSpPr>
          <p:spPr>
            <a:xfrm>
              <a:off x="7540560" y="2877840"/>
              <a:ext cx="522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Rectangle 219"/>
            <p:cNvSpPr/>
            <p:nvPr/>
          </p:nvSpPr>
          <p:spPr>
            <a:xfrm rot="12660600">
              <a:off x="8258400" y="27568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Rectangle 220"/>
            <p:cNvSpPr/>
            <p:nvPr/>
          </p:nvSpPr>
          <p:spPr>
            <a:xfrm rot="12660600">
              <a:off x="7971840" y="286092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Rectangle 221"/>
            <p:cNvSpPr/>
            <p:nvPr/>
          </p:nvSpPr>
          <p:spPr>
            <a:xfrm rot="12660600">
              <a:off x="7542000" y="301680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3" name="Group 222"/>
          <p:cNvGrpSpPr/>
          <p:nvPr/>
        </p:nvGrpSpPr>
        <p:grpSpPr>
          <a:xfrm>
            <a:off x="6924240" y="5424840"/>
            <a:ext cx="1021320" cy="959040"/>
            <a:chOff x="6924240" y="5424840"/>
            <a:chExt cx="1021320" cy="959040"/>
          </a:xfrm>
        </p:grpSpPr>
        <p:grpSp>
          <p:nvGrpSpPr>
            <p:cNvPr id="724" name="Group 223"/>
            <p:cNvGrpSpPr/>
            <p:nvPr/>
          </p:nvGrpSpPr>
          <p:grpSpPr>
            <a:xfrm>
              <a:off x="7032600" y="5424840"/>
              <a:ext cx="912960" cy="804960"/>
              <a:chOff x="7032600" y="5424840"/>
              <a:chExt cx="912960" cy="804960"/>
            </a:xfrm>
          </p:grpSpPr>
          <p:sp>
            <p:nvSpPr>
              <p:cNvPr id="725" name="Line 224"/>
              <p:cNvSpPr/>
              <p:nvPr/>
            </p:nvSpPr>
            <p:spPr>
              <a:xfrm flipH="1">
                <a:off x="7847280" y="611352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6" name="Line 225"/>
              <p:cNvSpPr/>
              <p:nvPr/>
            </p:nvSpPr>
            <p:spPr>
              <a:xfrm flipH="1">
                <a:off x="7731000" y="601524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7" name="Line 226"/>
              <p:cNvSpPr/>
              <p:nvPr/>
            </p:nvSpPr>
            <p:spPr>
              <a:xfrm flipH="1">
                <a:off x="7614720" y="591696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Line 227"/>
              <p:cNvSpPr/>
              <p:nvPr/>
            </p:nvSpPr>
            <p:spPr>
              <a:xfrm flipH="1">
                <a:off x="7498440" y="581868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9" name="Line 228"/>
              <p:cNvSpPr/>
              <p:nvPr/>
            </p:nvSpPr>
            <p:spPr>
              <a:xfrm flipH="1">
                <a:off x="7381800" y="572004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0" name="Line 229"/>
              <p:cNvSpPr/>
              <p:nvPr/>
            </p:nvSpPr>
            <p:spPr>
              <a:xfrm flipH="1">
                <a:off x="7265520" y="562176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Line 230"/>
              <p:cNvSpPr/>
              <p:nvPr/>
            </p:nvSpPr>
            <p:spPr>
              <a:xfrm flipH="1">
                <a:off x="7149240" y="5523480"/>
                <a:ext cx="9828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Line 231"/>
              <p:cNvSpPr/>
              <p:nvPr/>
            </p:nvSpPr>
            <p:spPr>
              <a:xfrm flipH="1">
                <a:off x="7032600" y="5424840"/>
                <a:ext cx="98640" cy="11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Line 232"/>
              <p:cNvSpPr/>
              <p:nvPr/>
            </p:nvSpPr>
            <p:spPr>
              <a:xfrm flipH="1" flipV="1">
                <a:off x="7032600" y="5541120"/>
                <a:ext cx="814680" cy="688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34" name="Line 233"/>
            <p:cNvSpPr/>
            <p:nvPr/>
          </p:nvSpPr>
          <p:spPr>
            <a:xfrm flipH="1">
              <a:off x="7632720" y="6131160"/>
              <a:ext cx="986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34"/>
            <p:cNvSpPr/>
            <p:nvPr/>
          </p:nvSpPr>
          <p:spPr>
            <a:xfrm flipH="1">
              <a:off x="7400160" y="5934600"/>
              <a:ext cx="986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35"/>
            <p:cNvSpPr/>
            <p:nvPr/>
          </p:nvSpPr>
          <p:spPr>
            <a:xfrm flipH="1">
              <a:off x="7050960" y="5639400"/>
              <a:ext cx="9864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Rectangle 236"/>
            <p:cNvSpPr/>
            <p:nvPr/>
          </p:nvSpPr>
          <p:spPr>
            <a:xfrm rot="16270200">
              <a:off x="7507440" y="622980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Rectangle 237"/>
            <p:cNvSpPr/>
            <p:nvPr/>
          </p:nvSpPr>
          <p:spPr>
            <a:xfrm rot="16270200">
              <a:off x="7274520" y="603288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Rectangle 238"/>
            <p:cNvSpPr/>
            <p:nvPr/>
          </p:nvSpPr>
          <p:spPr>
            <a:xfrm rot="16270200">
              <a:off x="6925320" y="573804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40" name="Group 239"/>
          <p:cNvGrpSpPr/>
          <p:nvPr/>
        </p:nvGrpSpPr>
        <p:grpSpPr>
          <a:xfrm>
            <a:off x="808560" y="5069880"/>
            <a:ext cx="876960" cy="1068120"/>
            <a:chOff x="808560" y="5069880"/>
            <a:chExt cx="876960" cy="1068120"/>
          </a:xfrm>
        </p:grpSpPr>
        <p:grpSp>
          <p:nvGrpSpPr>
            <p:cNvPr id="741" name="Group 240"/>
            <p:cNvGrpSpPr/>
            <p:nvPr/>
          </p:nvGrpSpPr>
          <p:grpSpPr>
            <a:xfrm>
              <a:off x="1015920" y="5140080"/>
              <a:ext cx="669600" cy="997920"/>
              <a:chOff x="1015920" y="5140080"/>
              <a:chExt cx="669600" cy="997920"/>
            </a:xfrm>
          </p:grpSpPr>
          <p:sp>
            <p:nvSpPr>
              <p:cNvPr id="742" name="Line 241"/>
              <p:cNvSpPr/>
              <p:nvPr/>
            </p:nvSpPr>
            <p:spPr>
              <a:xfrm flipH="1" flipV="1">
                <a:off x="1015920" y="6060960"/>
                <a:ext cx="131760" cy="77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Line 242"/>
              <p:cNvSpPr/>
              <p:nvPr/>
            </p:nvSpPr>
            <p:spPr>
              <a:xfrm flipH="1" flipV="1">
                <a:off x="1092960" y="5929560"/>
                <a:ext cx="13140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4" name="Line 243"/>
              <p:cNvSpPr/>
              <p:nvPr/>
            </p:nvSpPr>
            <p:spPr>
              <a:xfrm flipH="1" flipV="1">
                <a:off x="1169640" y="5798160"/>
                <a:ext cx="13140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Line 244"/>
              <p:cNvSpPr/>
              <p:nvPr/>
            </p:nvSpPr>
            <p:spPr>
              <a:xfrm flipH="1" flipV="1">
                <a:off x="1246320" y="5666400"/>
                <a:ext cx="131760" cy="77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Line 245"/>
              <p:cNvSpPr/>
              <p:nvPr/>
            </p:nvSpPr>
            <p:spPr>
              <a:xfrm flipH="1" flipV="1">
                <a:off x="1323360" y="5534640"/>
                <a:ext cx="131400" cy="77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Line 246"/>
              <p:cNvSpPr/>
              <p:nvPr/>
            </p:nvSpPr>
            <p:spPr>
              <a:xfrm flipH="1" flipV="1">
                <a:off x="1400040" y="5403240"/>
                <a:ext cx="13176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8" name="Line 247"/>
              <p:cNvSpPr/>
              <p:nvPr/>
            </p:nvSpPr>
            <p:spPr>
              <a:xfrm flipH="1" flipV="1">
                <a:off x="1477080" y="5271840"/>
                <a:ext cx="13140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Line 248"/>
              <p:cNvSpPr/>
              <p:nvPr/>
            </p:nvSpPr>
            <p:spPr>
              <a:xfrm flipH="1" flipV="1">
                <a:off x="1553760" y="5140080"/>
                <a:ext cx="131760" cy="7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Line 249"/>
              <p:cNvSpPr/>
              <p:nvPr/>
            </p:nvSpPr>
            <p:spPr>
              <a:xfrm flipV="1">
                <a:off x="1015920" y="5140080"/>
                <a:ext cx="537840" cy="92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51" name="Line 250"/>
            <p:cNvSpPr/>
            <p:nvPr/>
          </p:nvSpPr>
          <p:spPr>
            <a:xfrm flipH="1" flipV="1">
              <a:off x="961200" y="5852880"/>
              <a:ext cx="13212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51"/>
            <p:cNvSpPr/>
            <p:nvPr/>
          </p:nvSpPr>
          <p:spPr>
            <a:xfrm flipH="1" flipV="1">
              <a:off x="1114920" y="5589720"/>
              <a:ext cx="13176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52"/>
            <p:cNvSpPr/>
            <p:nvPr/>
          </p:nvSpPr>
          <p:spPr>
            <a:xfrm flipH="1" flipV="1">
              <a:off x="1345320" y="5194800"/>
              <a:ext cx="13212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Rectangle 253"/>
            <p:cNvSpPr/>
            <p:nvPr/>
          </p:nvSpPr>
          <p:spPr>
            <a:xfrm rot="21075000">
              <a:off x="819000" y="573840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Rectangle 254"/>
            <p:cNvSpPr/>
            <p:nvPr/>
          </p:nvSpPr>
          <p:spPr>
            <a:xfrm rot="21075000">
              <a:off x="972720" y="547524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Rectangle 255"/>
            <p:cNvSpPr/>
            <p:nvPr/>
          </p:nvSpPr>
          <p:spPr>
            <a:xfrm rot="21075000">
              <a:off x="1203120" y="5080320"/>
              <a:ext cx="15228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9. Anti-DI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1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762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763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4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7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8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1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2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5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6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7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8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1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2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3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4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5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6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7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8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9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0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1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92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793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4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5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6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7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8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9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0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2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3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4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4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5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6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7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8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9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2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823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8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3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4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6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7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9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0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1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2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3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4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5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6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7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8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0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1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2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7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3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934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5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6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7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8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9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0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1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2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43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944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945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6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7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8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9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1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2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4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0" name="Group 259"/>
          <p:cNvGrpSpPr/>
          <p:nvPr/>
        </p:nvGrpSpPr>
        <p:grpSpPr>
          <a:xfrm>
            <a:off x="1201680" y="5772240"/>
            <a:ext cx="322920" cy="435240"/>
            <a:chOff x="1201680" y="5772240"/>
            <a:chExt cx="322920" cy="435240"/>
          </a:xfrm>
        </p:grpSpPr>
        <p:sp>
          <p:nvSpPr>
            <p:cNvPr id="961" name="Line 256"/>
            <p:cNvSpPr/>
            <p:nvPr/>
          </p:nvSpPr>
          <p:spPr>
            <a:xfrm flipH="1" flipV="1">
              <a:off x="1369440" y="6039360"/>
              <a:ext cx="155160" cy="1681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57"/>
            <p:cNvSpPr/>
            <p:nvPr/>
          </p:nvSpPr>
          <p:spPr>
            <a:xfrm flipH="1">
              <a:off x="1201680" y="6039360"/>
              <a:ext cx="167760" cy="155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58"/>
            <p:cNvSpPr/>
            <p:nvPr/>
          </p:nvSpPr>
          <p:spPr>
            <a:xfrm flipV="1">
              <a:off x="1369800" y="5772240"/>
              <a:ext cx="64800" cy="2667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64" name="AutoShape 260"/>
          <p:cNvSpPr/>
          <p:nvPr/>
        </p:nvSpPr>
        <p:spPr>
          <a:xfrm rot="5400000">
            <a:off x="1119240" y="5510160"/>
            <a:ext cx="200160" cy="457200"/>
          </a:xfrm>
          <a:custGeom>
            <a:avLst/>
            <a:gdLst>
              <a:gd name="textAreaLeft" fmla="*/ 2160 w 200160"/>
              <a:gd name="textAreaRight" fmla="*/ 198000 w 200160"/>
              <a:gd name="textAreaTop" fmla="*/ 0 h 457200"/>
              <a:gd name="textAreaBottom" fmla="*/ 271800 h 457200"/>
            </a:gdLst>
            <a:ahLst/>
            <a:rect l="textAreaLeft" t="textAreaTop" r="textAreaRight" b="textAreaBottom"/>
            <a:pathLst>
              <a:path w="21600" h="21600">
                <a:moveTo>
                  <a:pt x="1462" y="10199"/>
                </a:moveTo>
                <a:cubicBezTo>
                  <a:pt x="1779" y="5274"/>
                  <a:pt x="5865" y="1442"/>
                  <a:pt x="10800" y="1443"/>
                </a:cubicBezTo>
                <a:cubicBezTo>
                  <a:pt x="15734" y="1443"/>
                  <a:pt x="19820" y="5274"/>
                  <a:pt x="20137" y="10199"/>
                </a:cubicBezTo>
                <a:lnTo>
                  <a:pt x="21577" y="10106"/>
                </a:lnTo>
                <a:cubicBezTo>
                  <a:pt x="21211" y="4422"/>
                  <a:pt x="16495" y="-1"/>
                  <a:pt x="10799" y="0"/>
                </a:cubicBezTo>
                <a:cubicBezTo>
                  <a:pt x="5104" y="0"/>
                  <a:pt x="388" y="4422"/>
                  <a:pt x="22" y="10106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5" name="Group 263"/>
          <p:cNvGrpSpPr/>
          <p:nvPr/>
        </p:nvGrpSpPr>
        <p:grpSpPr>
          <a:xfrm>
            <a:off x="7526160" y="2419200"/>
            <a:ext cx="322920" cy="435240"/>
            <a:chOff x="7526160" y="2419200"/>
            <a:chExt cx="322920" cy="435240"/>
          </a:xfrm>
        </p:grpSpPr>
        <p:sp>
          <p:nvSpPr>
            <p:cNvPr id="966" name="Line 264"/>
            <p:cNvSpPr/>
            <p:nvPr/>
          </p:nvSpPr>
          <p:spPr>
            <a:xfrm flipH="1" flipV="1">
              <a:off x="7693920" y="2686320"/>
              <a:ext cx="155160" cy="1681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Line 265"/>
            <p:cNvSpPr/>
            <p:nvPr/>
          </p:nvSpPr>
          <p:spPr>
            <a:xfrm flipH="1">
              <a:off x="7526160" y="2686320"/>
              <a:ext cx="167760" cy="155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Line 266"/>
            <p:cNvSpPr/>
            <p:nvPr/>
          </p:nvSpPr>
          <p:spPr>
            <a:xfrm flipV="1">
              <a:off x="7694280" y="2419200"/>
              <a:ext cx="64800" cy="2667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69" name="AutoShape 267"/>
          <p:cNvSpPr/>
          <p:nvPr/>
        </p:nvSpPr>
        <p:spPr>
          <a:xfrm rot="5400000">
            <a:off x="7443720" y="2157480"/>
            <a:ext cx="200160" cy="457200"/>
          </a:xfrm>
          <a:custGeom>
            <a:avLst/>
            <a:gdLst>
              <a:gd name="textAreaLeft" fmla="*/ 2160 w 200160"/>
              <a:gd name="textAreaRight" fmla="*/ 198000 w 200160"/>
              <a:gd name="textAreaTop" fmla="*/ 0 h 457200"/>
              <a:gd name="textAreaBottom" fmla="*/ 271800 h 457200"/>
            </a:gdLst>
            <a:ahLst/>
            <a:rect l="textAreaLeft" t="textAreaTop" r="textAreaRight" b="textAreaBottom"/>
            <a:pathLst>
              <a:path w="21600" h="21600">
                <a:moveTo>
                  <a:pt x="1462" y="10199"/>
                </a:moveTo>
                <a:cubicBezTo>
                  <a:pt x="1779" y="5274"/>
                  <a:pt x="5865" y="1442"/>
                  <a:pt x="10800" y="1443"/>
                </a:cubicBezTo>
                <a:cubicBezTo>
                  <a:pt x="15734" y="1443"/>
                  <a:pt x="19820" y="5274"/>
                  <a:pt x="20137" y="10199"/>
                </a:cubicBezTo>
                <a:lnTo>
                  <a:pt x="21577" y="10106"/>
                </a:lnTo>
                <a:cubicBezTo>
                  <a:pt x="21211" y="4422"/>
                  <a:pt x="16495" y="-1"/>
                  <a:pt x="10799" y="0"/>
                </a:cubicBezTo>
                <a:cubicBezTo>
                  <a:pt x="5104" y="0"/>
                  <a:pt x="388" y="4422"/>
                  <a:pt x="22" y="10106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0" name="Group 269"/>
          <p:cNvGrpSpPr/>
          <p:nvPr/>
        </p:nvGrpSpPr>
        <p:grpSpPr>
          <a:xfrm>
            <a:off x="7907400" y="4248000"/>
            <a:ext cx="322920" cy="435240"/>
            <a:chOff x="7907400" y="4248000"/>
            <a:chExt cx="322920" cy="435240"/>
          </a:xfrm>
        </p:grpSpPr>
        <p:sp>
          <p:nvSpPr>
            <p:cNvPr id="971" name="Line 270"/>
            <p:cNvSpPr/>
            <p:nvPr/>
          </p:nvSpPr>
          <p:spPr>
            <a:xfrm flipH="1" flipV="1">
              <a:off x="8075160" y="4515120"/>
              <a:ext cx="155160" cy="1681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Line 271"/>
            <p:cNvSpPr/>
            <p:nvPr/>
          </p:nvSpPr>
          <p:spPr>
            <a:xfrm flipH="1">
              <a:off x="7907400" y="4515120"/>
              <a:ext cx="167760" cy="155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Line 272"/>
            <p:cNvSpPr/>
            <p:nvPr/>
          </p:nvSpPr>
          <p:spPr>
            <a:xfrm flipV="1">
              <a:off x="8075520" y="4248000"/>
              <a:ext cx="64800" cy="2667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4" name="AutoShape 273"/>
          <p:cNvSpPr/>
          <p:nvPr/>
        </p:nvSpPr>
        <p:spPr>
          <a:xfrm rot="5400000">
            <a:off x="7824600" y="3986280"/>
            <a:ext cx="200160" cy="457200"/>
          </a:xfrm>
          <a:custGeom>
            <a:avLst/>
            <a:gdLst>
              <a:gd name="textAreaLeft" fmla="*/ 2160 w 200160"/>
              <a:gd name="textAreaRight" fmla="*/ 198000 w 200160"/>
              <a:gd name="textAreaTop" fmla="*/ 0 h 457200"/>
              <a:gd name="textAreaBottom" fmla="*/ 271800 h 457200"/>
            </a:gdLst>
            <a:ahLst/>
            <a:rect l="textAreaLeft" t="textAreaTop" r="textAreaRight" b="textAreaBottom"/>
            <a:pathLst>
              <a:path w="21600" h="21600">
                <a:moveTo>
                  <a:pt x="1462" y="10199"/>
                </a:moveTo>
                <a:cubicBezTo>
                  <a:pt x="1779" y="5274"/>
                  <a:pt x="5865" y="1442"/>
                  <a:pt x="10800" y="1443"/>
                </a:cubicBezTo>
                <a:cubicBezTo>
                  <a:pt x="15734" y="1443"/>
                  <a:pt x="19820" y="5274"/>
                  <a:pt x="20137" y="10199"/>
                </a:cubicBezTo>
                <a:lnTo>
                  <a:pt x="21577" y="10106"/>
                </a:lnTo>
                <a:cubicBezTo>
                  <a:pt x="21211" y="4422"/>
                  <a:pt x="16495" y="-1"/>
                  <a:pt x="10799" y="0"/>
                </a:cubicBezTo>
                <a:cubicBezTo>
                  <a:pt x="5104" y="0"/>
                  <a:pt x="388" y="4422"/>
                  <a:pt x="22" y="10106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9. Anti-DI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9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980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981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2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3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4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5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6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8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9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0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2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3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4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5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6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7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8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9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0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1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2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3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4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5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6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10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1011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4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5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6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7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8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9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0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1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2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3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4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5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6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7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8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9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0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1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6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7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9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0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1041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3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4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5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7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8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0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1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2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6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8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0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0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1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2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4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5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6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7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8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5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6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7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8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9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6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7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1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2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8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9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1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1152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61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1162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1163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6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8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9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0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72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8" name="Group 220"/>
          <p:cNvGrpSpPr/>
          <p:nvPr/>
        </p:nvGrpSpPr>
        <p:grpSpPr>
          <a:xfrm>
            <a:off x="990720" y="5638680"/>
            <a:ext cx="533880" cy="568800"/>
            <a:chOff x="990720" y="5638680"/>
            <a:chExt cx="533880" cy="568800"/>
          </a:xfrm>
        </p:grpSpPr>
        <p:grpSp>
          <p:nvGrpSpPr>
            <p:cNvPr id="1179" name="Group 205"/>
            <p:cNvGrpSpPr/>
            <p:nvPr/>
          </p:nvGrpSpPr>
          <p:grpSpPr>
            <a:xfrm>
              <a:off x="1201680" y="5772240"/>
              <a:ext cx="322920" cy="435240"/>
              <a:chOff x="1201680" y="5772240"/>
              <a:chExt cx="322920" cy="435240"/>
            </a:xfrm>
          </p:grpSpPr>
          <p:sp>
            <p:nvSpPr>
              <p:cNvPr id="1180" name="Line 206"/>
              <p:cNvSpPr/>
              <p:nvPr/>
            </p:nvSpPr>
            <p:spPr>
              <a:xfrm flipH="1" flipV="1">
                <a:off x="1369440" y="603936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Line 207"/>
              <p:cNvSpPr/>
              <p:nvPr/>
            </p:nvSpPr>
            <p:spPr>
              <a:xfrm flipH="1">
                <a:off x="1201680" y="603936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Line 208"/>
              <p:cNvSpPr/>
              <p:nvPr/>
            </p:nvSpPr>
            <p:spPr>
              <a:xfrm flipV="1">
                <a:off x="1369800" y="577224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83" name="AutoShape 209"/>
            <p:cNvSpPr/>
            <p:nvPr/>
          </p:nvSpPr>
          <p:spPr>
            <a:xfrm rot="5400000">
              <a:off x="1119240" y="551016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4" name="Group 222"/>
          <p:cNvGrpSpPr/>
          <p:nvPr/>
        </p:nvGrpSpPr>
        <p:grpSpPr>
          <a:xfrm>
            <a:off x="7358040" y="2400480"/>
            <a:ext cx="533880" cy="568080"/>
            <a:chOff x="7358040" y="2400480"/>
            <a:chExt cx="533880" cy="568080"/>
          </a:xfrm>
        </p:grpSpPr>
        <p:grpSp>
          <p:nvGrpSpPr>
            <p:cNvPr id="1185" name="Group 210"/>
            <p:cNvGrpSpPr/>
            <p:nvPr/>
          </p:nvGrpSpPr>
          <p:grpSpPr>
            <a:xfrm>
              <a:off x="7569000" y="2533320"/>
              <a:ext cx="322920" cy="435240"/>
              <a:chOff x="7569000" y="2533320"/>
              <a:chExt cx="322920" cy="435240"/>
            </a:xfrm>
          </p:grpSpPr>
          <p:sp>
            <p:nvSpPr>
              <p:cNvPr id="1186" name="Line 211"/>
              <p:cNvSpPr/>
              <p:nvPr/>
            </p:nvSpPr>
            <p:spPr>
              <a:xfrm flipH="1" flipV="1">
                <a:off x="7736760" y="28004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Line 212"/>
              <p:cNvSpPr/>
              <p:nvPr/>
            </p:nvSpPr>
            <p:spPr>
              <a:xfrm flipH="1">
                <a:off x="7569000" y="280044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Line 213"/>
              <p:cNvSpPr/>
              <p:nvPr/>
            </p:nvSpPr>
            <p:spPr>
              <a:xfrm flipV="1">
                <a:off x="7737120" y="253332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89" name="AutoShape 214"/>
            <p:cNvSpPr/>
            <p:nvPr/>
          </p:nvSpPr>
          <p:spPr>
            <a:xfrm rot="5400000">
              <a:off x="7486560" y="2271600"/>
              <a:ext cx="199800" cy="457200"/>
            </a:xfrm>
            <a:custGeom>
              <a:avLst/>
              <a:gdLst>
                <a:gd name="textAreaLeft" fmla="*/ 2880 w 199800"/>
                <a:gd name="textAreaRight" fmla="*/ 196920 w 19980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0" name="Group 221"/>
          <p:cNvGrpSpPr/>
          <p:nvPr/>
        </p:nvGrpSpPr>
        <p:grpSpPr>
          <a:xfrm>
            <a:off x="7696080" y="4114800"/>
            <a:ext cx="534240" cy="568440"/>
            <a:chOff x="7696080" y="4114800"/>
            <a:chExt cx="534240" cy="568440"/>
          </a:xfrm>
        </p:grpSpPr>
        <p:grpSp>
          <p:nvGrpSpPr>
            <p:cNvPr id="1191" name="Group 215"/>
            <p:cNvGrpSpPr/>
            <p:nvPr/>
          </p:nvGrpSpPr>
          <p:grpSpPr>
            <a:xfrm>
              <a:off x="7907400" y="4248000"/>
              <a:ext cx="322920" cy="435240"/>
              <a:chOff x="7907400" y="4248000"/>
              <a:chExt cx="322920" cy="435240"/>
            </a:xfrm>
          </p:grpSpPr>
          <p:sp>
            <p:nvSpPr>
              <p:cNvPr id="1192" name="Line 216"/>
              <p:cNvSpPr/>
              <p:nvPr/>
            </p:nvSpPr>
            <p:spPr>
              <a:xfrm flipH="1" flipV="1">
                <a:off x="8075160" y="451512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Line 217"/>
              <p:cNvSpPr/>
              <p:nvPr/>
            </p:nvSpPr>
            <p:spPr>
              <a:xfrm flipH="1">
                <a:off x="7907400" y="451512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Line 218"/>
              <p:cNvSpPr/>
              <p:nvPr/>
            </p:nvSpPr>
            <p:spPr>
              <a:xfrm flipV="1">
                <a:off x="8075520" y="424800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5" name="AutoShape 219"/>
            <p:cNvSpPr/>
            <p:nvPr/>
          </p:nvSpPr>
          <p:spPr>
            <a:xfrm rot="5400000">
              <a:off x="7824600" y="398628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02498 C -0.00017 -0.03168 -0.00416 -0.03862 -0.00833 -0.04487 C -0.01111 -0.04903 -0.01493 -0.05204 -0.01719 -0.05666 C -0.02031 -0.06267 -0.02413 -0.06938 -0.02621 -0.07655 C -0.03038 -0.09089 -0.02482 -0.07886 -0.03073 -0.09043 C -0.03264 -0.09898 -0.03646 -0.10615 -0.03819 -0.11448 C -0.04028 -0.12442 -0.04184 -0.13437 -0.0441 -0.14431 C -0.04357 -0.15148 -0.04427 -0.15911 -0.04271 -0.16605 C -0.03941 -0.18131 -0.02725 -0.18848 -0.01719 -0.19195 C -0.00486 -0.19103 0.00851 -0.1945 0.01997 -0.18802 C 0.03403 -0.17993 0.04462 -0.16258 0.05886 -0.15611 C 0.06511 -0.14778 0.07136 -0.13761 0.0783 -0.1302 C 0.08525 -0.1228 0.09393 -0.11633 0.1007 -0.10847 C 0.10955 -0.09829 0.11632 -0.08349 0.12604 -0.0747 C 0.13386 -0.06753 0.14045 -0.05967 0.14844 -0.05273 C 0.15347 -0.04834 0.15764 -0.04325 0.16337 -0.0407 C 0.16806 -0.03469 0.17205 -0.03145 0.1783 -0.02891 C 0.1908 -0.01804 0.2033 -0.00694 0.21702 0.00092 C 0.22795 0.00717 0.2441 0.0148 0.2559 0.01688 C 0.2658 0.0185 0.27587 0.0185 0.28577 0.02081 C 0.31389 0.02752 0.34236 0.03284 0.37084 0.03677 C 0.39861 0.03608 0.42656 0.03585 0.45434 0.03469 C 0.47396 0.03376 0.49219 0.02197 0.51111 0.01873 C 0.51597 0.01665 0.52118 0.01549 0.52604 0.01295 C 0.53438 0.00832 0.5415 0.00301 0.54983 -0.00116 C 0.5559 -0.00416 0.5599 -0.00879 0.56632 -0.0111 C 0.57084 -0.01503 0.575 -0.01573 0.57969 -0.01897 C 0.59011 -0.0259 0.60104 -0.034 0.60955 -0.04487 C 0.61372 -0.05019 0.6191 -0.05527 0.62309 -0.06059 C 0.629 -0.06846 0.63212 -0.07909 0.63802 -0.0865 C 0.6415 -0.09575 0.64202 -0.10523 0.64549 -0.11448 C 0.65052 -0.12789 0.64861 -0.12095 0.65434 -0.13229 C 0.65834 -0.14015 0.66025 -0.14778 0.66337 -0.15611 C 0.66702 -0.18247 0.66667 -0.18455 0.66476 -0.22179 C 0.66424 -0.23034 0.65816 -0.2507 0.65434 -0.25763 C 0.65226 -0.26133 0.64896 -0.26388 0.64688 -0.26758 C 0.62709 -0.30319 0.64792 -0.26503 0.63941 -0.28539 C 0.63594 -0.29394 0.6316 -0.29949 0.62743 -0.30712 C 0.62413 -0.32146 0.61632 -0.33326 0.60816 -0.34297 C 0.59479 -0.35893 0.58281 -0.37535 0.56788 -0.38876 C 0.56198 -0.39408 0.54775 -0.39408 0.54236 -0.39477 C 0.48976 -0.39339 0.46962 -0.39755 0.429 -0.3809 C 0.42344 -0.37581 0.41754 -0.3735 0.41111 -0.37095 C 0.40677 -0.36471 0.4007 -0.36355 0.39462 -0.36101 C 0.38768 -0.3543 0.37969 -0.35407 0.37222 -0.34898 C 0.36511 -0.34413 0.37049 -0.34505 0.36181 -0.34112 C 0.35938 -0.33996 0.35677 -0.33996 0.35434 -0.33904 C 0.35139 -0.33788 0.34844 -0.3365 0.34549 -0.33511 C 0.33941 -0.33233 0.33351 -0.32979 0.32743 -0.32701 C 0.32448 -0.32563 0.31858 -0.32308 0.31858 -0.32285 C 0.31702 -0.321 0.3158 -0.31869 0.31406 -0.31707 C 0.31129 -0.31406 0.30504 -0.30921 0.30504 -0.30897 C 0.30191 -0.30296 0.29792 -0.30111 0.29462 -0.29533 C 0.28959 -0.28631 0.28802 -0.28145 0.28577 -0.27151 C 0.28733 -0.26457 0.28924 -0.25971 0.29167 -0.25347 C 0.29236 -0.25162 0.29323 -0.24769 0.29323 -0.24746 E">
                                      <p:cBhvr>
                                        <p:cTn id="351" dur="5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222 C -0.02171 0.02405 -0.03733 0.03076 -0.054 0.034 C -0.07396 0.0377 -0.09358 0.04279 -0.11372 0.04602 C -0.13143 0.05157 -0.14827 0.06106 -0.16615 0.06591 C -0.17691 0.06453 -0.18924 0.06406 -0.19879 0.0599 C -0.20625 0.05689 -0.21303 0.05065 -0.21962 0.04787 C -0.22587 0.04256 -0.23299 0.03978 -0.24011 0.034 C -0.24792 0.02544 -0.25417 0.0118 -0.26407 0.00416 C -0.26841 -0.00462 -0.26997 -0.01411 -0.27344 -0.02359 C -0.27535 -0.03469 -0.27882 -0.04394 -0.28091 -0.0555 C -0.28594 -0.08279 -0.2908 -0.11077 -0.29723 -0.13691 C -0.30313 -0.15795 -0.30434 -0.18131 -0.31476 -0.20051 C -0.31702 -0.21253 -0.32188 -0.22016 -0.32709 -0.23034 C -0.32934 -0.23473 -0.33056 -0.24005 -0.33316 -0.24422 C -0.33525 -0.24745 -0.33941 -0.2493 -0.34167 -0.25231 C -0.35139 -0.26642 -0.35973 -0.27937 -0.37483 -0.28399 C -0.3875 -0.29556 -0.40469 -0.29833 -0.41962 -0.30388 C -0.43733 -0.31059 -0.45521 -0.3203 -0.47344 -0.32377 C -0.49584 -0.32817 -0.51823 -0.33187 -0.54063 -0.33372 C -0.55799 -0.34204 -0.604 -0.34112 -0.61823 -0.34181 C -0.6658 -0.34065 -0.6908 -0.3432 -0.73021 -0.32979 C -0.73455 -0.32585 -0.73959 -0.32423 -0.74358 -0.31984 C -0.7507 -0.31198 -0.75712 -0.30411 -0.76598 -0.29995 C -0.77014 -0.29163 -0.77553 -0.28538 -0.78091 -0.27821 C -0.7823 -0.27636 -0.79723 -0.24722 -0.79879 -0.24422 C -0.80296 -0.23566 -0.80382 -0.22225 -0.80625 -0.21253 C -0.80678 -0.20652 -0.80782 -0.20051 -0.80782 -0.19449 C -0.80782 -0.1746 -0.8073 -0.15472 -0.80625 -0.13506 C -0.80539 -0.11979 -0.80087 -0.08834 -0.78976 -0.07932 C -0.78316 -0.074 -0.77327 -0.07238 -0.76598 -0.06938 C -0.75608 -0.07007 -0.74601 -0.06961 -0.73612 -0.07123 C -0.73021 -0.07215 -0.72414 -0.07747 -0.71823 -0.07932 C -0.6948 -0.08649 -0.67275 -0.09991 -0.64948 -0.10707 C -0.62952 -0.10638 -0.60973 -0.10638 -0.58976 -0.10522 C -0.58403 -0.10499 -0.579 -0.10106 -0.57448 -0.09921 C -0.56337 -0.09551 -0.55139 -0.09227 -0.54063 -0.08719 C -0.53803 -0.08256 -0.52865 -0.07539 -0.52865 -0.07516 C -0.52691 -0.06892 -0.52119 -0.05735 -0.52119 -0.05712 C -0.52362 -0.03631 -0.52309 -0.04671 -0.52309 -0.02567 E">
                                      <p:cBhvr>
                                        <p:cTn id="353" dur="2000" fill="hold"/>
                                        <p:tgtEl>
                                          <p:spTgt spid="1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3.358E-006 C -0.00296 -0.00185 -0.00747 -0.00393 -0.01198 -0.00578 C -0.01754 -0.01087 -0.02344 -0.01318 -0.02986 -0.01572 C -0.03421 -0.02197 -0.04028 -0.02312 -0.04636 -0.02567 C -0.05139 -0.03052 -0.05591 -0.03052 -0.06129 -0.03376 C -0.06719 -0.03723 -0.07136 -0.04139 -0.07761 -0.04371 C -0.08212 -0.04533 -0.09098 -0.04972 -0.09098 -0.04949 C -0.09879 -0.05966 -0.12032 -0.06568 -0.13143 -0.06938 C -0.17796 -0.08464 -0.22726 -0.08372 -0.27466 -0.08742 C -0.31459 -0.08487 -0.35434 -0.08117 -0.3941 -0.07747 C -0.42257 -0.07169 -0.45018 -0.06498 -0.47761 -0.05365 C -0.4816 -0.04833 -0.48698 -0.04509 -0.49098 -0.03977 C -0.49427 -0.03538 -0.49671 -0.03029 -0.5 -0.02567 C -0.50209 -0.0178 -0.50382 -0.00971 -0.50591 -0.00185 C -0.50695 0.00208 -0.50903 0.00995 -0.50903 0.01018 C -0.50816 0.02637 -0.50816 0.06245 -0.4941 0.07378 C -0.48264 0.08303 -0.45608 0.08742 -0.4448 0.0895 C -0.43976 0.09043 -0.43473 0.09159 -0.42986 0.09344 C -0.42674 0.09459 -0.42084 0.0976 -0.42084 0.09783 C -0.4165 0.10592 -0.41424 0.10939 -0.41198 0.11934 C -0.41389 0.12327 -0.41598 0.12743 -0.41789 0.13136 C -0.42223 0.14015 -0.42622 0.13784 -0.43143 0.14131 C -0.43629 0.14455 -0.43889 0.1494 -0.44184 0.15518 C -0.4474 0.179 -0.43872 0.14524 -0.44636 0.16513 C -0.4507 0.17669 -0.45226 0.21092 -0.45226 0.2248 E">
                                      <p:cBhvr>
                                        <p:cTn id="355" dur="5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10. Wash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0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1201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1202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0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5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7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8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0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1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1232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7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61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1262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4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5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8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9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4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5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6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7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8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9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0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91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5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7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8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9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0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6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7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8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9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0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3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5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6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8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9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0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1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2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3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4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5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6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7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8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9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0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1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2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3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4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5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6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7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8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9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0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1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2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3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4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5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6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7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8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9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0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1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3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4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5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6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7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8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9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0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1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2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3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4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5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7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8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2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1373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4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6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7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8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9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0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1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82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1383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1384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5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6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7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0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1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2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93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4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5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6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7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8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9" name="Group 205"/>
          <p:cNvGrpSpPr/>
          <p:nvPr/>
        </p:nvGrpSpPr>
        <p:grpSpPr>
          <a:xfrm>
            <a:off x="2909880" y="3933720"/>
            <a:ext cx="533880" cy="568800"/>
            <a:chOff x="2909880" y="3933720"/>
            <a:chExt cx="533880" cy="568800"/>
          </a:xfrm>
        </p:grpSpPr>
        <p:grpSp>
          <p:nvGrpSpPr>
            <p:cNvPr id="1400" name="Group 206"/>
            <p:cNvGrpSpPr/>
            <p:nvPr/>
          </p:nvGrpSpPr>
          <p:grpSpPr>
            <a:xfrm>
              <a:off x="3120840" y="4067280"/>
              <a:ext cx="322920" cy="435240"/>
              <a:chOff x="3120840" y="4067280"/>
              <a:chExt cx="322920" cy="435240"/>
            </a:xfrm>
          </p:grpSpPr>
          <p:sp>
            <p:nvSpPr>
              <p:cNvPr id="1401" name="Line 207"/>
              <p:cNvSpPr/>
              <p:nvPr/>
            </p:nvSpPr>
            <p:spPr>
              <a:xfrm flipH="1" flipV="1">
                <a:off x="3288600" y="433440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2" name="Line 208"/>
              <p:cNvSpPr/>
              <p:nvPr/>
            </p:nvSpPr>
            <p:spPr>
              <a:xfrm flipH="1">
                <a:off x="3120840" y="433440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3" name="Line 209"/>
              <p:cNvSpPr/>
              <p:nvPr/>
            </p:nvSpPr>
            <p:spPr>
              <a:xfrm flipV="1">
                <a:off x="3288960" y="406728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04" name="AutoShape 210"/>
            <p:cNvSpPr/>
            <p:nvPr/>
          </p:nvSpPr>
          <p:spPr>
            <a:xfrm rot="5400000">
              <a:off x="3038400" y="380520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5" name="Group 211"/>
          <p:cNvGrpSpPr/>
          <p:nvPr/>
        </p:nvGrpSpPr>
        <p:grpSpPr>
          <a:xfrm>
            <a:off x="3676680" y="3938760"/>
            <a:ext cx="533880" cy="568080"/>
            <a:chOff x="3676680" y="3938760"/>
            <a:chExt cx="533880" cy="568080"/>
          </a:xfrm>
        </p:grpSpPr>
        <p:grpSp>
          <p:nvGrpSpPr>
            <p:cNvPr id="1406" name="Group 212"/>
            <p:cNvGrpSpPr/>
            <p:nvPr/>
          </p:nvGrpSpPr>
          <p:grpSpPr>
            <a:xfrm>
              <a:off x="3887640" y="4071600"/>
              <a:ext cx="322920" cy="435240"/>
              <a:chOff x="3887640" y="4071600"/>
              <a:chExt cx="322920" cy="435240"/>
            </a:xfrm>
          </p:grpSpPr>
          <p:sp>
            <p:nvSpPr>
              <p:cNvPr id="1407" name="Line 213"/>
              <p:cNvSpPr/>
              <p:nvPr/>
            </p:nvSpPr>
            <p:spPr>
              <a:xfrm flipH="1" flipV="1">
                <a:off x="4055400" y="433872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8" name="Line 214"/>
              <p:cNvSpPr/>
              <p:nvPr/>
            </p:nvSpPr>
            <p:spPr>
              <a:xfrm flipH="1">
                <a:off x="3887640" y="433872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9" name="Line 215"/>
              <p:cNvSpPr/>
              <p:nvPr/>
            </p:nvSpPr>
            <p:spPr>
              <a:xfrm flipV="1">
                <a:off x="4055760" y="407160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10" name="AutoShape 216"/>
            <p:cNvSpPr/>
            <p:nvPr/>
          </p:nvSpPr>
          <p:spPr>
            <a:xfrm rot="5400000">
              <a:off x="3805200" y="3809880"/>
              <a:ext cx="199800" cy="457200"/>
            </a:xfrm>
            <a:custGeom>
              <a:avLst/>
              <a:gdLst>
                <a:gd name="textAreaLeft" fmla="*/ 2880 w 199800"/>
                <a:gd name="textAreaRight" fmla="*/ 196920 w 19980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11" name="Group 217"/>
          <p:cNvGrpSpPr/>
          <p:nvPr/>
        </p:nvGrpSpPr>
        <p:grpSpPr>
          <a:xfrm>
            <a:off x="3214440" y="3933720"/>
            <a:ext cx="533880" cy="568440"/>
            <a:chOff x="3214440" y="3933720"/>
            <a:chExt cx="533880" cy="568440"/>
          </a:xfrm>
        </p:grpSpPr>
        <p:grpSp>
          <p:nvGrpSpPr>
            <p:cNvPr id="1412" name="Group 218"/>
            <p:cNvGrpSpPr/>
            <p:nvPr/>
          </p:nvGrpSpPr>
          <p:grpSpPr>
            <a:xfrm>
              <a:off x="3425400" y="4067280"/>
              <a:ext cx="322920" cy="434880"/>
              <a:chOff x="3425400" y="4067280"/>
              <a:chExt cx="322920" cy="434880"/>
            </a:xfrm>
          </p:grpSpPr>
          <p:sp>
            <p:nvSpPr>
              <p:cNvPr id="1413" name="Line 219"/>
              <p:cNvSpPr/>
              <p:nvPr/>
            </p:nvSpPr>
            <p:spPr>
              <a:xfrm flipH="1" flipV="1">
                <a:off x="3593160" y="43340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4" name="Line 220"/>
              <p:cNvSpPr/>
              <p:nvPr/>
            </p:nvSpPr>
            <p:spPr>
              <a:xfrm flipH="1">
                <a:off x="3425400" y="4334040"/>
                <a:ext cx="167760" cy="1548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5" name="Line 221"/>
              <p:cNvSpPr/>
              <p:nvPr/>
            </p:nvSpPr>
            <p:spPr>
              <a:xfrm flipV="1">
                <a:off x="3593160" y="4067280"/>
                <a:ext cx="6444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16" name="AutoShape 222"/>
            <p:cNvSpPr/>
            <p:nvPr/>
          </p:nvSpPr>
          <p:spPr>
            <a:xfrm rot="5400000">
              <a:off x="3342600" y="3805200"/>
              <a:ext cx="200160" cy="45684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6840"/>
                <a:gd name="textAreaBottom" fmla="*/ 27144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17" name="Group 223"/>
          <p:cNvGrpSpPr/>
          <p:nvPr/>
        </p:nvGrpSpPr>
        <p:grpSpPr>
          <a:xfrm>
            <a:off x="7010280" y="4257720"/>
            <a:ext cx="533880" cy="568440"/>
            <a:chOff x="7010280" y="4257720"/>
            <a:chExt cx="533880" cy="568440"/>
          </a:xfrm>
        </p:grpSpPr>
        <p:grpSp>
          <p:nvGrpSpPr>
            <p:cNvPr id="1418" name="Group 224"/>
            <p:cNvGrpSpPr/>
            <p:nvPr/>
          </p:nvGrpSpPr>
          <p:grpSpPr>
            <a:xfrm>
              <a:off x="7221240" y="4390920"/>
              <a:ext cx="322920" cy="435240"/>
              <a:chOff x="7221240" y="4390920"/>
              <a:chExt cx="322920" cy="435240"/>
            </a:xfrm>
          </p:grpSpPr>
          <p:sp>
            <p:nvSpPr>
              <p:cNvPr id="1419" name="Line 225"/>
              <p:cNvSpPr/>
              <p:nvPr/>
            </p:nvSpPr>
            <p:spPr>
              <a:xfrm flipH="1" flipV="1">
                <a:off x="7389000" y="46580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0" name="Line 226"/>
              <p:cNvSpPr/>
              <p:nvPr/>
            </p:nvSpPr>
            <p:spPr>
              <a:xfrm flipH="1">
                <a:off x="7221240" y="465804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1" name="Line 227"/>
              <p:cNvSpPr/>
              <p:nvPr/>
            </p:nvSpPr>
            <p:spPr>
              <a:xfrm flipV="1">
                <a:off x="7389360" y="439092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22" name="AutoShape 228"/>
            <p:cNvSpPr/>
            <p:nvPr/>
          </p:nvSpPr>
          <p:spPr>
            <a:xfrm rot="5400000">
              <a:off x="7138800" y="412920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3" name="Group 229"/>
          <p:cNvGrpSpPr/>
          <p:nvPr/>
        </p:nvGrpSpPr>
        <p:grpSpPr>
          <a:xfrm>
            <a:off x="3962520" y="5553000"/>
            <a:ext cx="533880" cy="568440"/>
            <a:chOff x="3962520" y="5553000"/>
            <a:chExt cx="533880" cy="568440"/>
          </a:xfrm>
        </p:grpSpPr>
        <p:grpSp>
          <p:nvGrpSpPr>
            <p:cNvPr id="1424" name="Group 230"/>
            <p:cNvGrpSpPr/>
            <p:nvPr/>
          </p:nvGrpSpPr>
          <p:grpSpPr>
            <a:xfrm>
              <a:off x="4173480" y="5686200"/>
              <a:ext cx="322920" cy="435240"/>
              <a:chOff x="4173480" y="5686200"/>
              <a:chExt cx="322920" cy="435240"/>
            </a:xfrm>
          </p:grpSpPr>
          <p:sp>
            <p:nvSpPr>
              <p:cNvPr id="1425" name="Line 231"/>
              <p:cNvSpPr/>
              <p:nvPr/>
            </p:nvSpPr>
            <p:spPr>
              <a:xfrm flipH="1" flipV="1">
                <a:off x="4341240" y="595332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6" name="Line 232"/>
              <p:cNvSpPr/>
              <p:nvPr/>
            </p:nvSpPr>
            <p:spPr>
              <a:xfrm flipH="1">
                <a:off x="4173480" y="595332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7" name="Line 233"/>
              <p:cNvSpPr/>
              <p:nvPr/>
            </p:nvSpPr>
            <p:spPr>
              <a:xfrm flipV="1">
                <a:off x="4341600" y="568620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28" name="AutoShape 234"/>
            <p:cNvSpPr/>
            <p:nvPr/>
          </p:nvSpPr>
          <p:spPr>
            <a:xfrm rot="5400000">
              <a:off x="4091040" y="542448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9" name="Group 235"/>
          <p:cNvGrpSpPr/>
          <p:nvPr/>
        </p:nvGrpSpPr>
        <p:grpSpPr>
          <a:xfrm>
            <a:off x="1981080" y="2428920"/>
            <a:ext cx="533880" cy="568440"/>
            <a:chOff x="1981080" y="2428920"/>
            <a:chExt cx="533880" cy="568440"/>
          </a:xfrm>
        </p:grpSpPr>
        <p:grpSp>
          <p:nvGrpSpPr>
            <p:cNvPr id="1430" name="Group 236"/>
            <p:cNvGrpSpPr/>
            <p:nvPr/>
          </p:nvGrpSpPr>
          <p:grpSpPr>
            <a:xfrm>
              <a:off x="2192040" y="2562120"/>
              <a:ext cx="322920" cy="435240"/>
              <a:chOff x="2192040" y="2562120"/>
              <a:chExt cx="322920" cy="435240"/>
            </a:xfrm>
          </p:grpSpPr>
          <p:sp>
            <p:nvSpPr>
              <p:cNvPr id="1431" name="Line 237"/>
              <p:cNvSpPr/>
              <p:nvPr/>
            </p:nvSpPr>
            <p:spPr>
              <a:xfrm flipH="1" flipV="1">
                <a:off x="2359800" y="28292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2" name="Line 238"/>
              <p:cNvSpPr/>
              <p:nvPr/>
            </p:nvSpPr>
            <p:spPr>
              <a:xfrm flipH="1">
                <a:off x="2192040" y="282924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3" name="Line 239"/>
              <p:cNvSpPr/>
              <p:nvPr/>
            </p:nvSpPr>
            <p:spPr>
              <a:xfrm flipV="1">
                <a:off x="2360160" y="256212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34" name="AutoShape 240"/>
            <p:cNvSpPr/>
            <p:nvPr/>
          </p:nvSpPr>
          <p:spPr>
            <a:xfrm rot="5400000">
              <a:off x="2109600" y="230040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11. CSPD</a:t>
            </a:r>
            <a:br>
              <a:rPr sz="4400"/>
            </a:br>
            <a:r>
              <a:rPr b="0" lang="en-US" sz="2000" spc="-1" strike="noStrike">
                <a:solidFill>
                  <a:srgbClr val="ffff00"/>
                </a:solidFill>
                <a:latin typeface="Lucida Sans Unicode"/>
              </a:rPr>
              <a:t>Disodium 3-(4-methoxyspiro {1,2-dioxetane-3,2´-(5'-chloro)tricyclo [3.3.1.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Lucida Sans Unicode"/>
              </a:rPr>
              <a:t>3,7</a:t>
            </a:r>
            <a:r>
              <a:rPr b="0" lang="en-US" sz="2000" spc="-1" strike="noStrike">
                <a:solidFill>
                  <a:srgbClr val="ffff00"/>
                </a:solidFill>
                <a:latin typeface="Lucida Sans Unicode"/>
              </a:rPr>
              <a:t>]decan}-4-yl)phenyl phospha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6" name="Rectangle 3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Oval 4"/>
          <p:cNvSpPr/>
          <p:nvPr/>
        </p:nvSpPr>
        <p:spPr>
          <a:xfrm>
            <a:off x="685800" y="4724280"/>
            <a:ext cx="7772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Oval 5"/>
          <p:cNvSpPr/>
          <p:nvPr/>
        </p:nvSpPr>
        <p:spPr>
          <a:xfrm>
            <a:off x="685800" y="2819520"/>
            <a:ext cx="7772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39" name="Group 6"/>
          <p:cNvGrpSpPr/>
          <p:nvPr/>
        </p:nvGrpSpPr>
        <p:grpSpPr>
          <a:xfrm>
            <a:off x="2362320" y="2895480"/>
            <a:ext cx="4419360" cy="2590920"/>
            <a:chOff x="2362320" y="2895480"/>
            <a:chExt cx="4419360" cy="2590920"/>
          </a:xfrm>
        </p:grpSpPr>
        <p:grpSp>
          <p:nvGrpSpPr>
            <p:cNvPr id="1440" name="Group 7"/>
            <p:cNvGrpSpPr/>
            <p:nvPr/>
          </p:nvGrpSpPr>
          <p:grpSpPr>
            <a:xfrm>
              <a:off x="2362320" y="3200400"/>
              <a:ext cx="4419360" cy="152280"/>
              <a:chOff x="2362320" y="3200400"/>
              <a:chExt cx="4419360" cy="152280"/>
            </a:xfrm>
          </p:grpSpPr>
          <p:sp>
            <p:nvSpPr>
              <p:cNvPr id="1441" name="Line 8"/>
              <p:cNvSpPr/>
              <p:nvPr/>
            </p:nvSpPr>
            <p:spPr>
              <a:xfrm>
                <a:off x="2362320" y="335268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2" name="Line 9"/>
              <p:cNvSpPr/>
              <p:nvPr/>
            </p:nvSpPr>
            <p:spPr>
              <a:xfrm>
                <a:off x="2514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3" name="Line 10"/>
              <p:cNvSpPr/>
              <p:nvPr/>
            </p:nvSpPr>
            <p:spPr>
              <a:xfrm>
                <a:off x="2666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4" name="Line 11"/>
              <p:cNvSpPr/>
              <p:nvPr/>
            </p:nvSpPr>
            <p:spPr>
              <a:xfrm>
                <a:off x="2819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5" name="Line 12"/>
              <p:cNvSpPr/>
              <p:nvPr/>
            </p:nvSpPr>
            <p:spPr>
              <a:xfrm>
                <a:off x="2971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6" name="Line 13"/>
              <p:cNvSpPr/>
              <p:nvPr/>
            </p:nvSpPr>
            <p:spPr>
              <a:xfrm>
                <a:off x="3124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7" name="Line 14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8" name="Line 15"/>
              <p:cNvSpPr/>
              <p:nvPr/>
            </p:nvSpPr>
            <p:spPr>
              <a:xfrm>
                <a:off x="3429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9" name="Line 16"/>
              <p:cNvSpPr/>
              <p:nvPr/>
            </p:nvSpPr>
            <p:spPr>
              <a:xfrm>
                <a:off x="3581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0" name="Line 17"/>
              <p:cNvSpPr/>
              <p:nvPr/>
            </p:nvSpPr>
            <p:spPr>
              <a:xfrm>
                <a:off x="3733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1" name="Line 18"/>
              <p:cNvSpPr/>
              <p:nvPr/>
            </p:nvSpPr>
            <p:spPr>
              <a:xfrm>
                <a:off x="6629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2" name="Line 19"/>
              <p:cNvSpPr/>
              <p:nvPr/>
            </p:nvSpPr>
            <p:spPr>
              <a:xfrm>
                <a:off x="3886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Line 20"/>
              <p:cNvSpPr/>
              <p:nvPr/>
            </p:nvSpPr>
            <p:spPr>
              <a:xfrm>
                <a:off x="4038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4" name="Line 21"/>
              <p:cNvSpPr/>
              <p:nvPr/>
            </p:nvSpPr>
            <p:spPr>
              <a:xfrm>
                <a:off x="4191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5" name="Line 22"/>
              <p:cNvSpPr/>
              <p:nvPr/>
            </p:nvSpPr>
            <p:spPr>
              <a:xfrm>
                <a:off x="43434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6" name="Line 23"/>
              <p:cNvSpPr/>
              <p:nvPr/>
            </p:nvSpPr>
            <p:spPr>
              <a:xfrm>
                <a:off x="44956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7" name="Line 24"/>
              <p:cNvSpPr/>
              <p:nvPr/>
            </p:nvSpPr>
            <p:spPr>
              <a:xfrm>
                <a:off x="46483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8" name="Line 25"/>
              <p:cNvSpPr/>
              <p:nvPr/>
            </p:nvSpPr>
            <p:spPr>
              <a:xfrm>
                <a:off x="48006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9" name="Line 26"/>
              <p:cNvSpPr/>
              <p:nvPr/>
            </p:nvSpPr>
            <p:spPr>
              <a:xfrm>
                <a:off x="49528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0" name="Line 27"/>
              <p:cNvSpPr/>
              <p:nvPr/>
            </p:nvSpPr>
            <p:spPr>
              <a:xfrm>
                <a:off x="51055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1" name="Line 28"/>
              <p:cNvSpPr/>
              <p:nvPr/>
            </p:nvSpPr>
            <p:spPr>
              <a:xfrm>
                <a:off x="52578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2" name="Line 29"/>
              <p:cNvSpPr/>
              <p:nvPr/>
            </p:nvSpPr>
            <p:spPr>
              <a:xfrm>
                <a:off x="54100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3" name="Line 30"/>
              <p:cNvSpPr/>
              <p:nvPr/>
            </p:nvSpPr>
            <p:spPr>
              <a:xfrm>
                <a:off x="55627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4" name="Line 31"/>
              <p:cNvSpPr/>
              <p:nvPr/>
            </p:nvSpPr>
            <p:spPr>
              <a:xfrm>
                <a:off x="57150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5" name="Line 32"/>
              <p:cNvSpPr/>
              <p:nvPr/>
            </p:nvSpPr>
            <p:spPr>
              <a:xfrm>
                <a:off x="58672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6" name="Line 33"/>
              <p:cNvSpPr/>
              <p:nvPr/>
            </p:nvSpPr>
            <p:spPr>
              <a:xfrm>
                <a:off x="60199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7" name="Line 34"/>
              <p:cNvSpPr/>
              <p:nvPr/>
            </p:nvSpPr>
            <p:spPr>
              <a:xfrm>
                <a:off x="617220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8" name="Line 35"/>
              <p:cNvSpPr/>
              <p:nvPr/>
            </p:nvSpPr>
            <p:spPr>
              <a:xfrm>
                <a:off x="632448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9" name="Line 36"/>
              <p:cNvSpPr/>
              <p:nvPr/>
            </p:nvSpPr>
            <p:spPr>
              <a:xfrm>
                <a:off x="6477120" y="320040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70" name="Group 37"/>
            <p:cNvGrpSpPr/>
            <p:nvPr/>
          </p:nvGrpSpPr>
          <p:grpSpPr>
            <a:xfrm>
              <a:off x="2362320" y="3505320"/>
              <a:ext cx="4419360" cy="152280"/>
              <a:chOff x="2362320" y="3505320"/>
              <a:chExt cx="4419360" cy="152280"/>
            </a:xfrm>
          </p:grpSpPr>
          <p:sp>
            <p:nvSpPr>
              <p:cNvPr id="1471" name="Line 38"/>
              <p:cNvSpPr/>
              <p:nvPr/>
            </p:nvSpPr>
            <p:spPr>
              <a:xfrm>
                <a:off x="2362320" y="365760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2" name="Line 39"/>
              <p:cNvSpPr/>
              <p:nvPr/>
            </p:nvSpPr>
            <p:spPr>
              <a:xfrm>
                <a:off x="2514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3" name="Line 40"/>
              <p:cNvSpPr/>
              <p:nvPr/>
            </p:nvSpPr>
            <p:spPr>
              <a:xfrm>
                <a:off x="2666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4" name="Line 41"/>
              <p:cNvSpPr/>
              <p:nvPr/>
            </p:nvSpPr>
            <p:spPr>
              <a:xfrm>
                <a:off x="2819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Line 42"/>
              <p:cNvSpPr/>
              <p:nvPr/>
            </p:nvSpPr>
            <p:spPr>
              <a:xfrm>
                <a:off x="2971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Line 43"/>
              <p:cNvSpPr/>
              <p:nvPr/>
            </p:nvSpPr>
            <p:spPr>
              <a:xfrm>
                <a:off x="3124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7" name="Line 44"/>
              <p:cNvSpPr/>
              <p:nvPr/>
            </p:nvSpPr>
            <p:spPr>
              <a:xfrm>
                <a:off x="3276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8" name="Line 45"/>
              <p:cNvSpPr/>
              <p:nvPr/>
            </p:nvSpPr>
            <p:spPr>
              <a:xfrm>
                <a:off x="3429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9" name="Line 46"/>
              <p:cNvSpPr/>
              <p:nvPr/>
            </p:nvSpPr>
            <p:spPr>
              <a:xfrm>
                <a:off x="3581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0" name="Line 47"/>
              <p:cNvSpPr/>
              <p:nvPr/>
            </p:nvSpPr>
            <p:spPr>
              <a:xfrm>
                <a:off x="3733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1" name="Line 48"/>
              <p:cNvSpPr/>
              <p:nvPr/>
            </p:nvSpPr>
            <p:spPr>
              <a:xfrm>
                <a:off x="6629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2" name="Line 49"/>
              <p:cNvSpPr/>
              <p:nvPr/>
            </p:nvSpPr>
            <p:spPr>
              <a:xfrm>
                <a:off x="3886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3" name="Line 50"/>
              <p:cNvSpPr/>
              <p:nvPr/>
            </p:nvSpPr>
            <p:spPr>
              <a:xfrm>
                <a:off x="4038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4" name="Line 51"/>
              <p:cNvSpPr/>
              <p:nvPr/>
            </p:nvSpPr>
            <p:spPr>
              <a:xfrm>
                <a:off x="4190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5" name="Line 52"/>
              <p:cNvSpPr/>
              <p:nvPr/>
            </p:nvSpPr>
            <p:spPr>
              <a:xfrm>
                <a:off x="43434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6" name="Line 53"/>
              <p:cNvSpPr/>
              <p:nvPr/>
            </p:nvSpPr>
            <p:spPr>
              <a:xfrm>
                <a:off x="44956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7" name="Line 54"/>
              <p:cNvSpPr/>
              <p:nvPr/>
            </p:nvSpPr>
            <p:spPr>
              <a:xfrm>
                <a:off x="46479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8" name="Line 55"/>
              <p:cNvSpPr/>
              <p:nvPr/>
            </p:nvSpPr>
            <p:spPr>
              <a:xfrm>
                <a:off x="48006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9" name="Line 56"/>
              <p:cNvSpPr/>
              <p:nvPr/>
            </p:nvSpPr>
            <p:spPr>
              <a:xfrm>
                <a:off x="49528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0" name="Line 57"/>
              <p:cNvSpPr/>
              <p:nvPr/>
            </p:nvSpPr>
            <p:spPr>
              <a:xfrm>
                <a:off x="51051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1" name="Line 58"/>
              <p:cNvSpPr/>
              <p:nvPr/>
            </p:nvSpPr>
            <p:spPr>
              <a:xfrm>
                <a:off x="52578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2" name="Line 59"/>
              <p:cNvSpPr/>
              <p:nvPr/>
            </p:nvSpPr>
            <p:spPr>
              <a:xfrm>
                <a:off x="54100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Line 60"/>
              <p:cNvSpPr/>
              <p:nvPr/>
            </p:nvSpPr>
            <p:spPr>
              <a:xfrm>
                <a:off x="55623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4" name="Line 61"/>
              <p:cNvSpPr/>
              <p:nvPr/>
            </p:nvSpPr>
            <p:spPr>
              <a:xfrm>
                <a:off x="57150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5" name="Line 62"/>
              <p:cNvSpPr/>
              <p:nvPr/>
            </p:nvSpPr>
            <p:spPr>
              <a:xfrm>
                <a:off x="58672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6" name="Line 63"/>
              <p:cNvSpPr/>
              <p:nvPr/>
            </p:nvSpPr>
            <p:spPr>
              <a:xfrm>
                <a:off x="60195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Line 64"/>
              <p:cNvSpPr/>
              <p:nvPr/>
            </p:nvSpPr>
            <p:spPr>
              <a:xfrm>
                <a:off x="617220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8" name="Line 65"/>
              <p:cNvSpPr/>
              <p:nvPr/>
            </p:nvSpPr>
            <p:spPr>
              <a:xfrm>
                <a:off x="632448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9" name="Line 66"/>
              <p:cNvSpPr/>
              <p:nvPr/>
            </p:nvSpPr>
            <p:spPr>
              <a:xfrm>
                <a:off x="6476760" y="3505320"/>
                <a:ext cx="0" cy="152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00" name="Group 67"/>
            <p:cNvGrpSpPr/>
            <p:nvPr/>
          </p:nvGrpSpPr>
          <p:grpSpPr>
            <a:xfrm>
              <a:off x="2362320" y="2895480"/>
              <a:ext cx="4419360" cy="152640"/>
              <a:chOff x="2362320" y="2895480"/>
              <a:chExt cx="4419360" cy="152640"/>
            </a:xfrm>
          </p:grpSpPr>
          <p:sp>
            <p:nvSpPr>
              <p:cNvPr id="1501" name="Line 68"/>
              <p:cNvSpPr/>
              <p:nvPr/>
            </p:nvSpPr>
            <p:spPr>
              <a:xfrm>
                <a:off x="2362320" y="3048120"/>
                <a:ext cx="441936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2" name="Line 69"/>
              <p:cNvSpPr/>
              <p:nvPr/>
            </p:nvSpPr>
            <p:spPr>
              <a:xfrm>
                <a:off x="2514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3" name="Line 70"/>
              <p:cNvSpPr/>
              <p:nvPr/>
            </p:nvSpPr>
            <p:spPr>
              <a:xfrm>
                <a:off x="2666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4" name="Line 71"/>
              <p:cNvSpPr/>
              <p:nvPr/>
            </p:nvSpPr>
            <p:spPr>
              <a:xfrm>
                <a:off x="2819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5" name="Line 72"/>
              <p:cNvSpPr/>
              <p:nvPr/>
            </p:nvSpPr>
            <p:spPr>
              <a:xfrm>
                <a:off x="2971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6" name="Line 73"/>
              <p:cNvSpPr/>
              <p:nvPr/>
            </p:nvSpPr>
            <p:spPr>
              <a:xfrm>
                <a:off x="3124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7" name="Line 74"/>
              <p:cNvSpPr/>
              <p:nvPr/>
            </p:nvSpPr>
            <p:spPr>
              <a:xfrm>
                <a:off x="3276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8" name="Line 75"/>
              <p:cNvSpPr/>
              <p:nvPr/>
            </p:nvSpPr>
            <p:spPr>
              <a:xfrm>
                <a:off x="3429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9" name="Line 76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0" name="Line 77"/>
              <p:cNvSpPr/>
              <p:nvPr/>
            </p:nvSpPr>
            <p:spPr>
              <a:xfrm>
                <a:off x="3733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1" name="Line 78"/>
              <p:cNvSpPr/>
              <p:nvPr/>
            </p:nvSpPr>
            <p:spPr>
              <a:xfrm>
                <a:off x="6629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2" name="Line 79"/>
              <p:cNvSpPr/>
              <p:nvPr/>
            </p:nvSpPr>
            <p:spPr>
              <a:xfrm>
                <a:off x="3886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3" name="Line 80"/>
              <p:cNvSpPr/>
              <p:nvPr/>
            </p:nvSpPr>
            <p:spPr>
              <a:xfrm>
                <a:off x="4038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4" name="Line 81"/>
              <p:cNvSpPr/>
              <p:nvPr/>
            </p:nvSpPr>
            <p:spPr>
              <a:xfrm>
                <a:off x="4190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5" name="Line 82"/>
              <p:cNvSpPr/>
              <p:nvPr/>
            </p:nvSpPr>
            <p:spPr>
              <a:xfrm>
                <a:off x="43434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6" name="Line 83"/>
              <p:cNvSpPr/>
              <p:nvPr/>
            </p:nvSpPr>
            <p:spPr>
              <a:xfrm>
                <a:off x="44956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7" name="Line 84"/>
              <p:cNvSpPr/>
              <p:nvPr/>
            </p:nvSpPr>
            <p:spPr>
              <a:xfrm>
                <a:off x="46479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8" name="Line 85"/>
              <p:cNvSpPr/>
              <p:nvPr/>
            </p:nvSpPr>
            <p:spPr>
              <a:xfrm>
                <a:off x="48006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9" name="Line 86"/>
              <p:cNvSpPr/>
              <p:nvPr/>
            </p:nvSpPr>
            <p:spPr>
              <a:xfrm>
                <a:off x="49528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0" name="Line 87"/>
              <p:cNvSpPr/>
              <p:nvPr/>
            </p:nvSpPr>
            <p:spPr>
              <a:xfrm>
                <a:off x="51051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1" name="Line 88"/>
              <p:cNvSpPr/>
              <p:nvPr/>
            </p:nvSpPr>
            <p:spPr>
              <a:xfrm>
                <a:off x="52578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2" name="Line 89"/>
              <p:cNvSpPr/>
              <p:nvPr/>
            </p:nvSpPr>
            <p:spPr>
              <a:xfrm>
                <a:off x="54100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3" name="Line 90"/>
              <p:cNvSpPr/>
              <p:nvPr/>
            </p:nvSpPr>
            <p:spPr>
              <a:xfrm>
                <a:off x="55623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4" name="Line 91"/>
              <p:cNvSpPr/>
              <p:nvPr/>
            </p:nvSpPr>
            <p:spPr>
              <a:xfrm>
                <a:off x="57150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5" name="Line 92"/>
              <p:cNvSpPr/>
              <p:nvPr/>
            </p:nvSpPr>
            <p:spPr>
              <a:xfrm>
                <a:off x="58672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6" name="Line 93"/>
              <p:cNvSpPr/>
              <p:nvPr/>
            </p:nvSpPr>
            <p:spPr>
              <a:xfrm>
                <a:off x="60195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7" name="Line 94"/>
              <p:cNvSpPr/>
              <p:nvPr/>
            </p:nvSpPr>
            <p:spPr>
              <a:xfrm>
                <a:off x="617220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8" name="Line 95"/>
              <p:cNvSpPr/>
              <p:nvPr/>
            </p:nvSpPr>
            <p:spPr>
              <a:xfrm>
                <a:off x="632448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9" name="Line 96"/>
              <p:cNvSpPr/>
              <p:nvPr/>
            </p:nvSpPr>
            <p:spPr>
              <a:xfrm>
                <a:off x="6476760" y="2895480"/>
                <a:ext cx="0" cy="1526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30" name="Line 97"/>
            <p:cNvSpPr/>
            <p:nvPr/>
          </p:nvSpPr>
          <p:spPr>
            <a:xfrm>
              <a:off x="2362320" y="50292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1" name="Line 98"/>
            <p:cNvSpPr/>
            <p:nvPr/>
          </p:nvSpPr>
          <p:spPr>
            <a:xfrm>
              <a:off x="2514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2" name="Line 99"/>
            <p:cNvSpPr/>
            <p:nvPr/>
          </p:nvSpPr>
          <p:spPr>
            <a:xfrm>
              <a:off x="2666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3" name="Line 100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4" name="Line 101"/>
            <p:cNvSpPr/>
            <p:nvPr/>
          </p:nvSpPr>
          <p:spPr>
            <a:xfrm>
              <a:off x="2971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5" name="Line 102"/>
            <p:cNvSpPr/>
            <p:nvPr/>
          </p:nvSpPr>
          <p:spPr>
            <a:xfrm>
              <a:off x="31240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6" name="Line 103"/>
            <p:cNvSpPr/>
            <p:nvPr/>
          </p:nvSpPr>
          <p:spPr>
            <a:xfrm>
              <a:off x="32767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7" name="Line 104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Line 105"/>
            <p:cNvSpPr/>
            <p:nvPr/>
          </p:nvSpPr>
          <p:spPr>
            <a:xfrm>
              <a:off x="35812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Line 106"/>
            <p:cNvSpPr/>
            <p:nvPr/>
          </p:nvSpPr>
          <p:spPr>
            <a:xfrm>
              <a:off x="37339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0" name="Line 107"/>
            <p:cNvSpPr/>
            <p:nvPr/>
          </p:nvSpPr>
          <p:spPr>
            <a:xfrm>
              <a:off x="6629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1" name="Line 108"/>
            <p:cNvSpPr/>
            <p:nvPr/>
          </p:nvSpPr>
          <p:spPr>
            <a:xfrm>
              <a:off x="388620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2" name="Line 109"/>
            <p:cNvSpPr/>
            <p:nvPr/>
          </p:nvSpPr>
          <p:spPr>
            <a:xfrm>
              <a:off x="403848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3" name="Line 110"/>
            <p:cNvSpPr/>
            <p:nvPr/>
          </p:nvSpPr>
          <p:spPr>
            <a:xfrm>
              <a:off x="4191120" y="48769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4" name="Line 111"/>
            <p:cNvSpPr/>
            <p:nvPr/>
          </p:nvSpPr>
          <p:spPr>
            <a:xfrm>
              <a:off x="43434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Line 112"/>
            <p:cNvSpPr/>
            <p:nvPr/>
          </p:nvSpPr>
          <p:spPr>
            <a:xfrm>
              <a:off x="44956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Line 113"/>
            <p:cNvSpPr/>
            <p:nvPr/>
          </p:nvSpPr>
          <p:spPr>
            <a:xfrm>
              <a:off x="46483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Line 114"/>
            <p:cNvSpPr/>
            <p:nvPr/>
          </p:nvSpPr>
          <p:spPr>
            <a:xfrm>
              <a:off x="48006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Line 115"/>
            <p:cNvSpPr/>
            <p:nvPr/>
          </p:nvSpPr>
          <p:spPr>
            <a:xfrm>
              <a:off x="49528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Line 116"/>
            <p:cNvSpPr/>
            <p:nvPr/>
          </p:nvSpPr>
          <p:spPr>
            <a:xfrm>
              <a:off x="51055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Line 117"/>
            <p:cNvSpPr/>
            <p:nvPr/>
          </p:nvSpPr>
          <p:spPr>
            <a:xfrm>
              <a:off x="52578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Line 118"/>
            <p:cNvSpPr/>
            <p:nvPr/>
          </p:nvSpPr>
          <p:spPr>
            <a:xfrm>
              <a:off x="54100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Line 119"/>
            <p:cNvSpPr/>
            <p:nvPr/>
          </p:nvSpPr>
          <p:spPr>
            <a:xfrm>
              <a:off x="55627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Line 120"/>
            <p:cNvSpPr/>
            <p:nvPr/>
          </p:nvSpPr>
          <p:spPr>
            <a:xfrm>
              <a:off x="57150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Line 121"/>
            <p:cNvSpPr/>
            <p:nvPr/>
          </p:nvSpPr>
          <p:spPr>
            <a:xfrm>
              <a:off x="58672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Line 122"/>
            <p:cNvSpPr/>
            <p:nvPr/>
          </p:nvSpPr>
          <p:spPr>
            <a:xfrm>
              <a:off x="60199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6" name="Line 123"/>
            <p:cNvSpPr/>
            <p:nvPr/>
          </p:nvSpPr>
          <p:spPr>
            <a:xfrm>
              <a:off x="617220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7" name="Line 124"/>
            <p:cNvSpPr/>
            <p:nvPr/>
          </p:nvSpPr>
          <p:spPr>
            <a:xfrm>
              <a:off x="632448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8" name="Line 125"/>
            <p:cNvSpPr/>
            <p:nvPr/>
          </p:nvSpPr>
          <p:spPr>
            <a:xfrm>
              <a:off x="6477120" y="48769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9" name="Line 126"/>
            <p:cNvSpPr/>
            <p:nvPr/>
          </p:nvSpPr>
          <p:spPr>
            <a:xfrm>
              <a:off x="3124080" y="50292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0" name="Line 127"/>
            <p:cNvSpPr/>
            <p:nvPr/>
          </p:nvSpPr>
          <p:spPr>
            <a:xfrm>
              <a:off x="2362320" y="52578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1" name="Line 128"/>
            <p:cNvSpPr/>
            <p:nvPr/>
          </p:nvSpPr>
          <p:spPr>
            <a:xfrm>
              <a:off x="2514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2" name="Line 129"/>
            <p:cNvSpPr/>
            <p:nvPr/>
          </p:nvSpPr>
          <p:spPr>
            <a:xfrm>
              <a:off x="2666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3" name="Line 130"/>
            <p:cNvSpPr/>
            <p:nvPr/>
          </p:nvSpPr>
          <p:spPr>
            <a:xfrm>
              <a:off x="2819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Line 131"/>
            <p:cNvSpPr/>
            <p:nvPr/>
          </p:nvSpPr>
          <p:spPr>
            <a:xfrm>
              <a:off x="2971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Line 132"/>
            <p:cNvSpPr/>
            <p:nvPr/>
          </p:nvSpPr>
          <p:spPr>
            <a:xfrm>
              <a:off x="31240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Line 133"/>
            <p:cNvSpPr/>
            <p:nvPr/>
          </p:nvSpPr>
          <p:spPr>
            <a:xfrm>
              <a:off x="32767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134"/>
            <p:cNvSpPr/>
            <p:nvPr/>
          </p:nvSpPr>
          <p:spPr>
            <a:xfrm>
              <a:off x="34290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135"/>
            <p:cNvSpPr/>
            <p:nvPr/>
          </p:nvSpPr>
          <p:spPr>
            <a:xfrm>
              <a:off x="35812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Line 136"/>
            <p:cNvSpPr/>
            <p:nvPr/>
          </p:nvSpPr>
          <p:spPr>
            <a:xfrm>
              <a:off x="37339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137"/>
            <p:cNvSpPr/>
            <p:nvPr/>
          </p:nvSpPr>
          <p:spPr>
            <a:xfrm>
              <a:off x="6629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138"/>
            <p:cNvSpPr/>
            <p:nvPr/>
          </p:nvSpPr>
          <p:spPr>
            <a:xfrm>
              <a:off x="388620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Line 139"/>
            <p:cNvSpPr/>
            <p:nvPr/>
          </p:nvSpPr>
          <p:spPr>
            <a:xfrm>
              <a:off x="403848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140"/>
            <p:cNvSpPr/>
            <p:nvPr/>
          </p:nvSpPr>
          <p:spPr>
            <a:xfrm>
              <a:off x="4191120" y="510552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Line 141"/>
            <p:cNvSpPr/>
            <p:nvPr/>
          </p:nvSpPr>
          <p:spPr>
            <a:xfrm>
              <a:off x="43434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Line 142"/>
            <p:cNvSpPr/>
            <p:nvPr/>
          </p:nvSpPr>
          <p:spPr>
            <a:xfrm>
              <a:off x="44956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Line 143"/>
            <p:cNvSpPr/>
            <p:nvPr/>
          </p:nvSpPr>
          <p:spPr>
            <a:xfrm>
              <a:off x="46483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7" name="Line 144"/>
            <p:cNvSpPr/>
            <p:nvPr/>
          </p:nvSpPr>
          <p:spPr>
            <a:xfrm>
              <a:off x="48006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8" name="Line 145"/>
            <p:cNvSpPr/>
            <p:nvPr/>
          </p:nvSpPr>
          <p:spPr>
            <a:xfrm>
              <a:off x="49528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9" name="Line 146"/>
            <p:cNvSpPr/>
            <p:nvPr/>
          </p:nvSpPr>
          <p:spPr>
            <a:xfrm>
              <a:off x="51055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Line 147"/>
            <p:cNvSpPr/>
            <p:nvPr/>
          </p:nvSpPr>
          <p:spPr>
            <a:xfrm>
              <a:off x="52578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1" name="Line 148"/>
            <p:cNvSpPr/>
            <p:nvPr/>
          </p:nvSpPr>
          <p:spPr>
            <a:xfrm>
              <a:off x="54100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Line 149"/>
            <p:cNvSpPr/>
            <p:nvPr/>
          </p:nvSpPr>
          <p:spPr>
            <a:xfrm>
              <a:off x="55627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3" name="Line 150"/>
            <p:cNvSpPr/>
            <p:nvPr/>
          </p:nvSpPr>
          <p:spPr>
            <a:xfrm>
              <a:off x="57150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4" name="Line 151"/>
            <p:cNvSpPr/>
            <p:nvPr/>
          </p:nvSpPr>
          <p:spPr>
            <a:xfrm>
              <a:off x="58672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5" name="Line 152"/>
            <p:cNvSpPr/>
            <p:nvPr/>
          </p:nvSpPr>
          <p:spPr>
            <a:xfrm>
              <a:off x="60199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6" name="Line 153"/>
            <p:cNvSpPr/>
            <p:nvPr/>
          </p:nvSpPr>
          <p:spPr>
            <a:xfrm>
              <a:off x="617220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7" name="Line 154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8" name="Line 155"/>
            <p:cNvSpPr/>
            <p:nvPr/>
          </p:nvSpPr>
          <p:spPr>
            <a:xfrm>
              <a:off x="6477120" y="51055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9" name="Line 156"/>
            <p:cNvSpPr/>
            <p:nvPr/>
          </p:nvSpPr>
          <p:spPr>
            <a:xfrm>
              <a:off x="3124080" y="525780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0" name="Line 157"/>
            <p:cNvSpPr/>
            <p:nvPr/>
          </p:nvSpPr>
          <p:spPr>
            <a:xfrm>
              <a:off x="2362320" y="5486400"/>
              <a:ext cx="4419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1" name="Line 158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2" name="Line 159"/>
            <p:cNvSpPr/>
            <p:nvPr/>
          </p:nvSpPr>
          <p:spPr>
            <a:xfrm>
              <a:off x="2666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Line 160"/>
            <p:cNvSpPr/>
            <p:nvPr/>
          </p:nvSpPr>
          <p:spPr>
            <a:xfrm>
              <a:off x="2819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Line 161"/>
            <p:cNvSpPr/>
            <p:nvPr/>
          </p:nvSpPr>
          <p:spPr>
            <a:xfrm>
              <a:off x="2971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Line 162"/>
            <p:cNvSpPr/>
            <p:nvPr/>
          </p:nvSpPr>
          <p:spPr>
            <a:xfrm>
              <a:off x="6629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Line 163"/>
            <p:cNvSpPr/>
            <p:nvPr/>
          </p:nvSpPr>
          <p:spPr>
            <a:xfrm>
              <a:off x="43434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Line 164"/>
            <p:cNvSpPr/>
            <p:nvPr/>
          </p:nvSpPr>
          <p:spPr>
            <a:xfrm>
              <a:off x="44956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Line 165"/>
            <p:cNvSpPr/>
            <p:nvPr/>
          </p:nvSpPr>
          <p:spPr>
            <a:xfrm>
              <a:off x="46483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Line 166"/>
            <p:cNvSpPr/>
            <p:nvPr/>
          </p:nvSpPr>
          <p:spPr>
            <a:xfrm>
              <a:off x="48006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Line 167"/>
            <p:cNvSpPr/>
            <p:nvPr/>
          </p:nvSpPr>
          <p:spPr>
            <a:xfrm>
              <a:off x="49528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1" name="Line 168"/>
            <p:cNvSpPr/>
            <p:nvPr/>
          </p:nvSpPr>
          <p:spPr>
            <a:xfrm>
              <a:off x="51055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Line 169"/>
            <p:cNvSpPr/>
            <p:nvPr/>
          </p:nvSpPr>
          <p:spPr>
            <a:xfrm>
              <a:off x="52578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Line 170"/>
            <p:cNvSpPr/>
            <p:nvPr/>
          </p:nvSpPr>
          <p:spPr>
            <a:xfrm>
              <a:off x="54100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4" name="Line 171"/>
            <p:cNvSpPr/>
            <p:nvPr/>
          </p:nvSpPr>
          <p:spPr>
            <a:xfrm>
              <a:off x="55627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5" name="Line 172"/>
            <p:cNvSpPr/>
            <p:nvPr/>
          </p:nvSpPr>
          <p:spPr>
            <a:xfrm>
              <a:off x="57150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Line 173"/>
            <p:cNvSpPr/>
            <p:nvPr/>
          </p:nvSpPr>
          <p:spPr>
            <a:xfrm>
              <a:off x="58672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7" name="Line 174"/>
            <p:cNvSpPr/>
            <p:nvPr/>
          </p:nvSpPr>
          <p:spPr>
            <a:xfrm>
              <a:off x="60199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8" name="Line 175"/>
            <p:cNvSpPr/>
            <p:nvPr/>
          </p:nvSpPr>
          <p:spPr>
            <a:xfrm>
              <a:off x="617220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9" name="Line 176"/>
            <p:cNvSpPr/>
            <p:nvPr/>
          </p:nvSpPr>
          <p:spPr>
            <a:xfrm>
              <a:off x="632448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0" name="Line 177"/>
            <p:cNvSpPr/>
            <p:nvPr/>
          </p:nvSpPr>
          <p:spPr>
            <a:xfrm>
              <a:off x="6477120" y="5334120"/>
              <a:ext cx="0" cy="1522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11" name="Group 178"/>
            <p:cNvGrpSpPr/>
            <p:nvPr/>
          </p:nvGrpSpPr>
          <p:grpSpPr>
            <a:xfrm>
              <a:off x="3124080" y="5334120"/>
              <a:ext cx="1067040" cy="152280"/>
              <a:chOff x="3124080" y="5334120"/>
              <a:chExt cx="1067040" cy="152280"/>
            </a:xfrm>
          </p:grpSpPr>
          <p:sp>
            <p:nvSpPr>
              <p:cNvPr id="1612" name="Line 179"/>
              <p:cNvSpPr/>
              <p:nvPr/>
            </p:nvSpPr>
            <p:spPr>
              <a:xfrm>
                <a:off x="31240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3" name="Line 180"/>
              <p:cNvSpPr/>
              <p:nvPr/>
            </p:nvSpPr>
            <p:spPr>
              <a:xfrm>
                <a:off x="32767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4" name="Line 181"/>
              <p:cNvSpPr/>
              <p:nvPr/>
            </p:nvSpPr>
            <p:spPr>
              <a:xfrm>
                <a:off x="34290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5" name="Line 182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6" name="Line 183"/>
              <p:cNvSpPr/>
              <p:nvPr/>
            </p:nvSpPr>
            <p:spPr>
              <a:xfrm>
                <a:off x="37339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7" name="Line 184"/>
              <p:cNvSpPr/>
              <p:nvPr/>
            </p:nvSpPr>
            <p:spPr>
              <a:xfrm>
                <a:off x="388620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8" name="Line 185"/>
              <p:cNvSpPr/>
              <p:nvPr/>
            </p:nvSpPr>
            <p:spPr>
              <a:xfrm>
                <a:off x="403848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9" name="Line 186"/>
              <p:cNvSpPr/>
              <p:nvPr/>
            </p:nvSpPr>
            <p:spPr>
              <a:xfrm>
                <a:off x="4191120" y="53341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0" name="Line 187"/>
              <p:cNvSpPr/>
              <p:nvPr/>
            </p:nvSpPr>
            <p:spPr>
              <a:xfrm>
                <a:off x="3124080" y="548640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21" name="Group 188"/>
          <p:cNvGrpSpPr/>
          <p:nvPr/>
        </p:nvGrpSpPr>
        <p:grpSpPr>
          <a:xfrm>
            <a:off x="3124080" y="4388760"/>
            <a:ext cx="1067040" cy="487800"/>
            <a:chOff x="3124080" y="4388760"/>
            <a:chExt cx="1067040" cy="487800"/>
          </a:xfrm>
        </p:grpSpPr>
        <p:grpSp>
          <p:nvGrpSpPr>
            <p:cNvPr id="1622" name="Group 189"/>
            <p:cNvGrpSpPr/>
            <p:nvPr/>
          </p:nvGrpSpPr>
          <p:grpSpPr>
            <a:xfrm>
              <a:off x="3124080" y="4724280"/>
              <a:ext cx="1067040" cy="152280"/>
              <a:chOff x="3124080" y="4724280"/>
              <a:chExt cx="1067040" cy="152280"/>
            </a:xfrm>
          </p:grpSpPr>
          <p:sp>
            <p:nvSpPr>
              <p:cNvPr id="1623" name="Line 190"/>
              <p:cNvSpPr/>
              <p:nvPr/>
            </p:nvSpPr>
            <p:spPr>
              <a:xfrm flipV="1">
                <a:off x="31240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4" name="Line 191"/>
              <p:cNvSpPr/>
              <p:nvPr/>
            </p:nvSpPr>
            <p:spPr>
              <a:xfrm flipV="1">
                <a:off x="32767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5" name="Line 192"/>
              <p:cNvSpPr/>
              <p:nvPr/>
            </p:nvSpPr>
            <p:spPr>
              <a:xfrm flipV="1">
                <a:off x="34290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6" name="Line 193"/>
              <p:cNvSpPr/>
              <p:nvPr/>
            </p:nvSpPr>
            <p:spPr>
              <a:xfrm flipV="1">
                <a:off x="35812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7" name="Line 194"/>
              <p:cNvSpPr/>
              <p:nvPr/>
            </p:nvSpPr>
            <p:spPr>
              <a:xfrm flipV="1">
                <a:off x="37339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8" name="Line 195"/>
              <p:cNvSpPr/>
              <p:nvPr/>
            </p:nvSpPr>
            <p:spPr>
              <a:xfrm flipV="1">
                <a:off x="388620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9" name="Line 196"/>
              <p:cNvSpPr/>
              <p:nvPr/>
            </p:nvSpPr>
            <p:spPr>
              <a:xfrm flipV="1">
                <a:off x="403848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0" name="Line 197"/>
              <p:cNvSpPr/>
              <p:nvPr/>
            </p:nvSpPr>
            <p:spPr>
              <a:xfrm flipV="1">
                <a:off x="4191120" y="472428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1" name="Line 198"/>
              <p:cNvSpPr/>
              <p:nvPr/>
            </p:nvSpPr>
            <p:spPr>
              <a:xfrm>
                <a:off x="3124080" y="47242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32" name="Line 199"/>
            <p:cNvSpPr/>
            <p:nvPr/>
          </p:nvSpPr>
          <p:spPr>
            <a:xfrm flipV="1">
              <a:off x="327672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Line 200"/>
            <p:cNvSpPr/>
            <p:nvPr/>
          </p:nvSpPr>
          <p:spPr>
            <a:xfrm flipV="1">
              <a:off x="35812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Line 201"/>
            <p:cNvSpPr/>
            <p:nvPr/>
          </p:nvSpPr>
          <p:spPr>
            <a:xfrm flipV="1">
              <a:off x="403848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Rectangle 202"/>
            <p:cNvSpPr/>
            <p:nvPr/>
          </p:nvSpPr>
          <p:spPr>
            <a:xfrm rot="3057600">
              <a:off x="320004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Rectangle 203"/>
            <p:cNvSpPr/>
            <p:nvPr/>
          </p:nvSpPr>
          <p:spPr>
            <a:xfrm rot="3057600">
              <a:off x="35049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Rectangle 204"/>
            <p:cNvSpPr/>
            <p:nvPr/>
          </p:nvSpPr>
          <p:spPr>
            <a:xfrm rot="3057600">
              <a:off x="3962160" y="4419360"/>
              <a:ext cx="1522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8" name="Group 205"/>
          <p:cNvGrpSpPr/>
          <p:nvPr/>
        </p:nvGrpSpPr>
        <p:grpSpPr>
          <a:xfrm>
            <a:off x="2909880" y="3933720"/>
            <a:ext cx="533880" cy="568800"/>
            <a:chOff x="2909880" y="3933720"/>
            <a:chExt cx="533880" cy="568800"/>
          </a:xfrm>
        </p:grpSpPr>
        <p:grpSp>
          <p:nvGrpSpPr>
            <p:cNvPr id="1639" name="Group 206"/>
            <p:cNvGrpSpPr/>
            <p:nvPr/>
          </p:nvGrpSpPr>
          <p:grpSpPr>
            <a:xfrm>
              <a:off x="3120840" y="4067280"/>
              <a:ext cx="322920" cy="435240"/>
              <a:chOff x="3120840" y="4067280"/>
              <a:chExt cx="322920" cy="435240"/>
            </a:xfrm>
          </p:grpSpPr>
          <p:sp>
            <p:nvSpPr>
              <p:cNvPr id="1640" name="Line 207"/>
              <p:cNvSpPr/>
              <p:nvPr/>
            </p:nvSpPr>
            <p:spPr>
              <a:xfrm flipH="1" flipV="1">
                <a:off x="3288600" y="433440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1" name="Line 208"/>
              <p:cNvSpPr/>
              <p:nvPr/>
            </p:nvSpPr>
            <p:spPr>
              <a:xfrm flipH="1">
                <a:off x="3120840" y="433440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2" name="Line 209"/>
              <p:cNvSpPr/>
              <p:nvPr/>
            </p:nvSpPr>
            <p:spPr>
              <a:xfrm flipV="1">
                <a:off x="3288960" y="406728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3" name="AutoShape 210"/>
            <p:cNvSpPr/>
            <p:nvPr/>
          </p:nvSpPr>
          <p:spPr>
            <a:xfrm rot="5400000">
              <a:off x="3038400" y="3805200"/>
              <a:ext cx="200160" cy="45720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4" name="Group 211"/>
          <p:cNvGrpSpPr/>
          <p:nvPr/>
        </p:nvGrpSpPr>
        <p:grpSpPr>
          <a:xfrm>
            <a:off x="3676680" y="3938760"/>
            <a:ext cx="533880" cy="568080"/>
            <a:chOff x="3676680" y="3938760"/>
            <a:chExt cx="533880" cy="568080"/>
          </a:xfrm>
        </p:grpSpPr>
        <p:grpSp>
          <p:nvGrpSpPr>
            <p:cNvPr id="1645" name="Group 212"/>
            <p:cNvGrpSpPr/>
            <p:nvPr/>
          </p:nvGrpSpPr>
          <p:grpSpPr>
            <a:xfrm>
              <a:off x="3887640" y="4071600"/>
              <a:ext cx="322920" cy="435240"/>
              <a:chOff x="3887640" y="4071600"/>
              <a:chExt cx="322920" cy="435240"/>
            </a:xfrm>
          </p:grpSpPr>
          <p:sp>
            <p:nvSpPr>
              <p:cNvPr id="1646" name="Line 213"/>
              <p:cNvSpPr/>
              <p:nvPr/>
            </p:nvSpPr>
            <p:spPr>
              <a:xfrm flipH="1" flipV="1">
                <a:off x="4055400" y="433872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7" name="Line 214"/>
              <p:cNvSpPr/>
              <p:nvPr/>
            </p:nvSpPr>
            <p:spPr>
              <a:xfrm flipH="1">
                <a:off x="3887640" y="4338720"/>
                <a:ext cx="167760" cy="1551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8" name="Line 215"/>
              <p:cNvSpPr/>
              <p:nvPr/>
            </p:nvSpPr>
            <p:spPr>
              <a:xfrm flipV="1">
                <a:off x="4055760" y="4071600"/>
                <a:ext cx="6480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9" name="AutoShape 216"/>
            <p:cNvSpPr/>
            <p:nvPr/>
          </p:nvSpPr>
          <p:spPr>
            <a:xfrm rot="5400000">
              <a:off x="3805200" y="3809880"/>
              <a:ext cx="199800" cy="457200"/>
            </a:xfrm>
            <a:custGeom>
              <a:avLst/>
              <a:gdLst>
                <a:gd name="textAreaLeft" fmla="*/ 2880 w 199800"/>
                <a:gd name="textAreaRight" fmla="*/ 196920 w 199800"/>
                <a:gd name="textAreaTop" fmla="*/ 0 h 457200"/>
                <a:gd name="textAreaBottom" fmla="*/ 271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0" name="Group 217"/>
          <p:cNvGrpSpPr/>
          <p:nvPr/>
        </p:nvGrpSpPr>
        <p:grpSpPr>
          <a:xfrm>
            <a:off x="3214440" y="3933720"/>
            <a:ext cx="533880" cy="568440"/>
            <a:chOff x="3214440" y="3933720"/>
            <a:chExt cx="533880" cy="568440"/>
          </a:xfrm>
        </p:grpSpPr>
        <p:grpSp>
          <p:nvGrpSpPr>
            <p:cNvPr id="1651" name="Group 218"/>
            <p:cNvGrpSpPr/>
            <p:nvPr/>
          </p:nvGrpSpPr>
          <p:grpSpPr>
            <a:xfrm>
              <a:off x="3425400" y="4067280"/>
              <a:ext cx="322920" cy="434880"/>
              <a:chOff x="3425400" y="4067280"/>
              <a:chExt cx="322920" cy="434880"/>
            </a:xfrm>
          </p:grpSpPr>
          <p:sp>
            <p:nvSpPr>
              <p:cNvPr id="1652" name="Line 219"/>
              <p:cNvSpPr/>
              <p:nvPr/>
            </p:nvSpPr>
            <p:spPr>
              <a:xfrm flipH="1" flipV="1">
                <a:off x="3593160" y="4334040"/>
                <a:ext cx="155160" cy="1681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3" name="Line 220"/>
              <p:cNvSpPr/>
              <p:nvPr/>
            </p:nvSpPr>
            <p:spPr>
              <a:xfrm flipH="1">
                <a:off x="3425400" y="4334040"/>
                <a:ext cx="167760" cy="1548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4" name="Line 221"/>
              <p:cNvSpPr/>
              <p:nvPr/>
            </p:nvSpPr>
            <p:spPr>
              <a:xfrm flipV="1">
                <a:off x="3593160" y="4067280"/>
                <a:ext cx="64440" cy="2667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55" name="AutoShape 222"/>
            <p:cNvSpPr/>
            <p:nvPr/>
          </p:nvSpPr>
          <p:spPr>
            <a:xfrm rot="5400000">
              <a:off x="3342600" y="3805200"/>
              <a:ext cx="200160" cy="456840"/>
            </a:xfrm>
            <a:custGeom>
              <a:avLst/>
              <a:gdLst>
                <a:gd name="textAreaLeft" fmla="*/ 2880 w 200160"/>
                <a:gd name="textAreaRight" fmla="*/ 197280 w 200160"/>
                <a:gd name="textAreaTop" fmla="*/ 0 h 456840"/>
                <a:gd name="textAreaBottom" fmla="*/ 27144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" y="10199"/>
                  </a:moveTo>
                  <a:cubicBezTo>
                    <a:pt x="1779" y="5274"/>
                    <a:pt x="5865" y="1442"/>
                    <a:pt x="10800" y="1443"/>
                  </a:cubicBezTo>
                  <a:cubicBezTo>
                    <a:pt x="15734" y="1443"/>
                    <a:pt x="19820" y="5274"/>
                    <a:pt x="20137" y="10199"/>
                  </a:cubicBezTo>
                  <a:lnTo>
                    <a:pt x="21577" y="10106"/>
                  </a:lnTo>
                  <a:cubicBezTo>
                    <a:pt x="21211" y="4422"/>
                    <a:pt x="16495" y="-1"/>
                    <a:pt x="10799" y="0"/>
                  </a:cubicBezTo>
                  <a:cubicBezTo>
                    <a:pt x="5104" y="0"/>
                    <a:pt x="388" y="4422"/>
                    <a:pt x="22" y="10106"/>
                  </a:cubicBez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6" name="Oval 241"/>
          <p:cNvSpPr/>
          <p:nvPr/>
        </p:nvSpPr>
        <p:spPr>
          <a:xfrm>
            <a:off x="1066680" y="23623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Oval 242"/>
          <p:cNvSpPr/>
          <p:nvPr/>
        </p:nvSpPr>
        <p:spPr>
          <a:xfrm>
            <a:off x="2362320" y="60199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Oval 243"/>
          <p:cNvSpPr/>
          <p:nvPr/>
        </p:nvSpPr>
        <p:spPr>
          <a:xfrm>
            <a:off x="7620120" y="4038480"/>
            <a:ext cx="22860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Oval 244"/>
          <p:cNvSpPr/>
          <p:nvPr/>
        </p:nvSpPr>
        <p:spPr>
          <a:xfrm>
            <a:off x="990720" y="502920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Oval 245"/>
          <p:cNvSpPr/>
          <p:nvPr/>
        </p:nvSpPr>
        <p:spPr>
          <a:xfrm>
            <a:off x="4572000" y="365760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Oval 246"/>
          <p:cNvSpPr/>
          <p:nvPr/>
        </p:nvSpPr>
        <p:spPr>
          <a:xfrm>
            <a:off x="6629400" y="5867280"/>
            <a:ext cx="22860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Oval 247"/>
          <p:cNvSpPr/>
          <p:nvPr/>
        </p:nvSpPr>
        <p:spPr>
          <a:xfrm>
            <a:off x="5029200" y="60199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Oval 248"/>
          <p:cNvSpPr/>
          <p:nvPr/>
        </p:nvSpPr>
        <p:spPr>
          <a:xfrm>
            <a:off x="2057400" y="411480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Oval 249"/>
          <p:cNvSpPr/>
          <p:nvPr/>
        </p:nvSpPr>
        <p:spPr>
          <a:xfrm>
            <a:off x="6019920" y="41911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Oval 250"/>
          <p:cNvSpPr/>
          <p:nvPr/>
        </p:nvSpPr>
        <p:spPr>
          <a:xfrm>
            <a:off x="6019920" y="2590920"/>
            <a:ext cx="22860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1156 C -0.00104 0.01919 -0.00243 0.02705 -0.00469 0.03561 C -0.00885 0.08256 0.00556 0.13066 0.03559 0.1568 C 0.04115 0.16813 0.04948 0.17206 0.05799 0.17877 C 0.06927 0.18755 0.07951 0.19449 0.09236 0.19865 C 0.10538 0.20305 0.11892 0.20444 0.13108 0.21253 C 0.14809 0.21184 0.16493 0.21161 0.18194 0.21045 C 0.19427 0.20952 0.20764 0.20166 0.21771 0.19264 C 0.22153 0.1894 0.22708 0.1894 0.23108 0.18663 C 0.23264 0.18547 0.23403 0.18385 0.23559 0.1827 C 0.2375 0.18131 0.23958 0.18015 0.24167 0.17877 C 0.24722 0.1709 0.25469 0.16558 0.26094 0.15888 C 0.26458 0.15494 0.26684 0.14939 0.26997 0.14477 C 0.27257 0.13552 0.27344 0.12396 0.27899 0.11702 C 0.28247 0.10198 0.29045 0.09042 0.29688 0.07724 C 0.29983 0.07123 0.30278 0.06544 0.30573 0.05943 C 0.30677 0.05735 0.30885 0.05342 0.30885 0.05365 C 0.31181 0.04047 0.31962 0.0289 0.32517 0.01757 C 0.32795 0.01202 0.32934 0.00624 0.33264 0.00161 C 0.33524 -0.0081 0.33924 -0.01504 0.34462 -0.02221 C 0.34688 -0.03146 0.34826 -0.03816 0.35208 -0.04603 C 0.35503 -0.05851 0.3566 -0.07054 0.35799 -0.08372 C 0.35764 -0.09459 0.36042 -0.14732 0.34601 -0.1612 C 0.34167 -0.16536 0.34201 -0.16467 0.33854 -0.16929 C 0.33403 -0.1753 0.33125 -0.17854 0.32517 -0.18109 C 0.32066 -0.18756 0.31528 -0.18826 0.30885 -0.19103 C 0.30035 -0.19473 0.29201 -0.19843 0.28333 -0.20098 C 0.27049 -0.20028 0.25747 -0.20028 0.24462 -0.19913 C 0.23299 -0.19797 0.21892 -0.18617 0.20885 -0.17924 C 0.20017 -0.17322 0.18976 -0.17299 0.18038 -0.16929 C 0.16753 -0.16999 0.15451 -0.16975 0.14167 -0.17114 C 0.13455 -0.17184 0.12066 -0.1753 0.12066 -0.17507 C 0.11302 -0.17854 0.10642 -0.1797 0.09826 -0.18109 C 0.0776 -0.17993 0.06632 -0.18155 0.04913 -0.17322 C 0.04288 -0.16536 0.03611 -0.15912 0.03108 -0.1494 C 0.02899 -0.14038 0.02969 -0.14339 0.02674 -0.1316 C 0.02622 -0.12951 0.02517 -0.12558 0.02517 -0.12535 C 0.02604 -0.10754 0.02483 -0.06198 0.04601 -0.0599 C 0.05851 -0.05875 0.07083 -0.05851 0.08333 -0.05782 C 0.0974 -0.05435 0.11163 -0.0562 0.12517 -0.04996 C 0.12622 -0.04788 0.12691 -0.04556 0.12813 -0.04395 C 0.12934 -0.04233 0.13142 -0.04186 0.13264 -0.04001 C 0.13368 -0.03839 0.13316 -0.03562 0.1342 -0.034 C 0.13802 -0.02729 0.14132 -0.02221 0.14757 -0.02221 E">
                                      <p:cBhvr>
                                        <p:cTn id="377" dur="5000" fill="hold"/>
                                        <p:tgtEl>
                                          <p:spTgt spid="1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-0.0111 C -0.0092 -0.01504 -0.01284 -0.02059 -0.0184 -0.02498 C -0.02882 -0.03307 -0.04392 -0.04441 -0.04826 -0.06083 C -0.04982 -0.06684 -0.05121 -0.07285 -0.05277 -0.07887 C -0.05243 -0.0821 -0.05277 -0.0969 -0.04826 -0.1006 C -0.04566 -0.10292 -0.04236 -0.10315 -0.03941 -0.10454 C -0.03784 -0.10523 -0.03489 -0.10662 -0.03489 -0.10639 C -0.01389 -0.10546 -0.00069 -0.10708 0.01736 -0.1006 C 0.02674 -0.1013 0.03629 -0.10153 0.04566 -0.10269 C 0.05087 -0.10338 0.06059 -0.1087 0.06059 -0.10847 C 0.06441 -0.11356 0.0665 -0.11772 0.06806 -0.12443 C 0.06754 -0.13969 0.06754 -0.15495 0.06667 -0.17022 C 0.06615 -0.17854 0.06181 -0.18687 0.0592 -0.19404 C 0.05035 -0.21786 0.04028 -0.24214 0.02639 -0.2618 C 0.02205 -0.27776 0.02795 -0.25833 0.02188 -0.27174 C 0.01962 -0.2766 0.01875 -0.284 0.01736 -0.28955 C 0.01962 -0.29834 0.03143 -0.31221 0.0382 -0.31545 C 0.04514 -0.32424 0.05417 -0.31568 0.0592 -0.30736 C 0.06042 -0.30551 0.06077 -0.30273 0.06216 -0.30134 C 0.0658 -0.29741 0.07552 -0.29556 0.07552 -0.29533 C 0.079 -0.29996 0.07726 -0.29949 0.08004 -0.29949 E">
                                      <p:cBhvr>
                                        <p:cTn id="379" dur="3000" fill="hold"/>
                                        <p:tgtEl>
                                          <p:spTgt spid="1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833 C -0.01545 0.00902 -0.03073 0.00926 -0.04618 0.01041 C -0.05503 0.01111 -0.0592 0.02429 -0.06562 0.0303 C -0.07239 0.04371 -0.07934 0.05482 -0.08941 0.06407 C -0.09392 0.06823 -0.09479 0.07447 -0.1 0.07794 C -0.10486 0.08118 -0.11111 0.0821 -0.11632 0.08396 C -0.14739 0.08095 -0.17604 0.06638 -0.20746 0.06198 C -0.2184 0.06268 -0.22934 0.06291 -0.24027 0.06407 C -0.2493 0.06499 -0.25868 0.07401 -0.26718 0.07794 C -0.27847 0.09367 -0.2651 0.07702 -0.27604 0.08581 C -0.28628 0.09413 -0.27083 0.08673 -0.2835 0.09182 C -0.29392 0.10084 -0.29652 0.10847 -0.30885 0.11379 C -0.31336 0.11587 -0.32239 0.1198 -0.32239 0.12003 C -0.3467 0.11841 -0.36336 0.11865 -0.38507 0.10986 C -0.3908 0.10199 -0.39895 0.10292 -0.4059 0.09783 C -0.41701 0.08974 -0.42291 0.07771 -0.43125 0.06592 C -0.43281 0.0599 -0.4342 0.05412 -0.43576 0.04811 C -0.4342 0.02984 -0.42725 -0.00948 -0.40885 -0.00948 E">
                                      <p:cBhvr>
                                        <p:cTn id="381" dur="2000" fill="hold"/>
                                        <p:tgtEl>
                                          <p:spTgt spid="1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6.89177E-006 C 0.00174 0.02405 -0.00104 0.02983 0.01649 0.03792 C 0.02865 0.03561 0.02952 0.03468 0.03733 0.02381 C 0.04115 0.00809 0.03577 0.02728 0.04184 0.01387 C 0.04827 -6.89176999999971E-006 0.03785 0.01549 0.04618 0.00393 C 0.04861 -0.00533 0.05278 -0.00903 0.05972 -0.0118 C 0.0632 -0.01111 0.06702 -0.01203 0.07014 -0.00995 C 0.07153 -0.00903 0.0717 -0.00602 0.0717 -0.00394 C 0.0717 0.00647 0.0691 0.01109 0.06424 0.01803 C 0.0599 0.03399 0.0658 0.01456 0.05972 0.02798 C 0.05903 0.02936 0.05712 0.03838 0.05677 0.03977 C 0.05486 0.05642 0.04879 0.08047 0.06111 0.09158 C 0.0691 0.09065 0.07813 0.09319 0.08507 0.08764 C 0.09531 0.07932 0.07986 0.08672 0.09254 0.08163 C 0.09618 0.07446 0.09931 0.0659 0.10156 0.05781 C 0.10261 0.04324 0.10017 0.03445 0.11042 0.02983 C 0.11962 0.03306 0.12604 0.03792 0.13438 0.04185 C 0.13906 0.03769 0.14167 0.03422 0.14479 0.02798 C 0.14653 0.02011 0.14705 0.00924 0.15226 0.00393 C 0.15504 0.00115 0.16111 -0.00394 0.16111 -0.00394 C 0.17031 -0.00232 0.17622 -0.00371 0.18212 0.00601 C 0.18524 0.01109 0.18802 0.02381 0.18802 0.02381 E">
                                      <p:cBhvr>
                                        <p:cTn id="383" dur="50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66327E-006 C -0.00504 0.00231 -0.00886 0.00393 -0.01337 0.00786 C -0.025 0.00601 -0.03386 0.003 -0.04479 -0.00209 C -0.04653 -0.00278 -0.04774 -0.00509 -0.04931 -0.00602 C -0.05469 -0.00926 -0.06163 -0.01365 -0.06719 -0.01596 C -0.07188 -0.01804 -0.07622 -0.02197 -0.08056 -0.02383 C -0.0849 -0.02568 -0.0941 -0.02776 -0.0941 -0.02776 C -0.10104 -0.02706 -0.10799 -0.02729 -0.11493 -0.02591 C -0.11806 -0.02521 -0.12379 -0.02197 -0.12379 -0.02197 C -0.12708 -0.01758 -0.1309 -0.01434 -0.13438 -0.00995 C -0.13611 -0.00255 -0.13854 0.00023 -0.14184 0.00601 C -0.14653 0.0141 -0.14931 0.02312 -0.15521 0.02983 C -0.16476 0.04047 -0.17951 0.03931 -0.19097 0.04185 C -0.19913 0.04371 -0.20712 0.0481 -0.21493 0.0518 C -0.21823 0.05342 -0.22379 0.05966 -0.22379 0.05966 C -0.2283 0.07678 -0.23108 0.07053 -0.22691 0.09736 C -0.22604 0.10314 -0.21493 0.10545 -0.21493 0.10545 C -0.19774 0.10268 -0.18264 0.09296 -0.16563 0.0895 C -0.1507 0.09204 -0.13629 0.0962 -0.12379 0.1073 C -0.12049 0.11031 -0.11649 0.11216 -0.11337 0.1154 C -0.11059 0.11817 -0.1059 0.12534 -0.1059 0.12534 C -0.10538 0.12719 -0.10521 0.12927 -0.10451 0.13112 C -0.10382 0.13274 -0.10226 0.13367 -0.10156 0.13529 C -0.10017 0.13899 -0.09844 0.14708 -0.09844 0.14708 C -0.10122 0.16512 -0.10747 0.18131 -0.11198 0.19889 C -0.11181 0.20143 -0.11111 0.22409 -0.10747 0.22872 C -0.10313 0.2345 -0.09566 0.24005 -0.08958 0.24259 C -0.08663 0.24398 -0.08056 0.24653 -0.08056 0.24653 E">
                                      <p:cBhvr>
                                        <p:cTn id="385" dur="500" fill="hold"/>
                                        <p:tgtEl>
                                          <p:spTgt spid="1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1364 C -0.00191 0.02173 -0.00434 0.02497 -0.01041 0.02775 C -0.0151 0.03677 -0.02378 0.03954 -0.02986 0.04764 C -0.03333 0.06174 -0.03437 0.05897 -0.0283 0.07146 C -0.01319 0.06961 -0.01198 0.07238 -0.00295 0.06336 C -3.33332999999988E-006 0.06059 0.00313 0.05804 0.00608 0.0555 C 0.00764 0.05411 0.01059 0.05157 0.01059 0.05157 C 0.02049 0.05365 0.02032 0.05365 0.02552 0.06336 C 0.02726 0.07123 0.03021 0.07678 0.02691 0.08533 C 0.02587 0.08788 0.02431 0.08996 0.0224 0.09135 C 0.01962 0.09343 0.01355 0.09528 0.01355 0.09528 C 0.00261 0.09389 -0.00607 0.09065 -0.01632 0.0932 C -0.02465 0.1006 -0.03159 0.108 -0.03732 0.1191 C -0.03802 0.12442 -0.04027 0.12951 -0.04027 0.13506 C -0.04027 0.1642 -0.03767 0.16975 -0.02083 0.18478 C -0.01788 0.18755 -0.01389 0.18709 -0.01041 0.18871 C 0.00052 0.18617 0.00764 0.18108 0.01355 0.16882 C 0.01632 0.15656 0.02014 0.14523 0.02986 0.14107 C 0.04375 0.14246 0.0474 0.14246 0.05834 0.14685 C 0.06511 0.15333 0.06962 0.16327 0.07761 0.16674 C 0.08177 0.17229 0.08542 0.17275 0.09115 0.17483 C 0.10209 0.18432 0.11719 0.18663 0.12986 0.18871 C 0.14723 0.18802 0.16476 0.1894 0.18212 0.18663 C 0.18907 0.18547 0.19723 0.17229 0.20452 0.16882 C 0.20608 0.16674 0.20782 0.16512 0.20903 0.16281 C 0.2099 0.16096 0.20955 0.15841 0.21059 0.1568 C 0.21459 0.15009 0.22448 0.14292 0.22986 0.13899 C 0.23455 0.13552 0.2382 0.12858 0.24341 0.12696 C 0.25157 0.12442 0.26042 0.11794 0.26875 0.11725 C 0.27327 0.11679 0.27761 0.11725 0.28212 0.11725 E">
                                      <p:cBhvr>
                                        <p:cTn id="387" dur="3000" fill="hold"/>
                                        <p:tgtEl>
                                          <p:spTgt spid="1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75301E-006 C 0.00156 -0.02521 -0.00209 -0.02984 0.01632 -0.03377 C 0.03559 -0.03123 0.04427 -0.0303 0.06562 -0.03192 C 0.07257 -0.03793 0.0717 -0.04233 0.07309 -0.05366 C 0.07257 -0.05967 0.07274 -0.06592 0.0717 -0.0717 C 0.06892 -0.08604 0.05034 -0.08928 0.04184 -0.09159 C 0.02448 -0.0902 0.00903 -0.08835 -0.00747 -0.08164 C -0.01181 -0.07794 -0.01511 -0.07332 -0.01945 -0.06962 C -0.02726 -0.05389 -0.03906 -0.03863 -0.0507 -0.02799 C -0.05347 -0.01758 -0.05295 -0.02244 -0.0507 -0.00602 C -0.04549 0.0333 -0.00677 0.02844 0.01493 0.02983 C 0.02239 0.03283 0.02969 0.03515 0.03732 0.03769 C 0.04427 0.037 0.05139 0.03792 0.05816 0.03561 C 0.06562 0.03306 0.05903 0.01109 0.05521 0.00578 C 0.05764 0.00439 0.06163 0.00508 0.06267 0.00184 C 0.06354 -0.0007 0.05729 -0.00163 0.05816 -0.00417 C 0.05972 -0.00926 0.06771 -0.01226 0.0717 -0.01411 C 0.07691 -0.01319 0.08403 -0.01435 0.08802 -0.0081 C 0.09444 0.00161 0.09271 0.00578 0.10139 0.00994 C 0.11753 0.00254 0.10364 -0.01365 0.09844 -0.02406 C 0.09791 -0.02591 0.09791 -0.02822 0.09705 -0.02984 C 0.09635 -0.03146 0.09409 -0.03192 0.09392 -0.03377 C 0.09253 -0.04765 0.09791 -0.04973 0.1059 -0.04973 E">
                                      <p:cBhvr>
                                        <p:cTn id="389" dur="5000" fill="hold"/>
                                        <p:tgtEl>
                                          <p:spTgt spid="1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4089E-006 C -0.00226 0.00856 -0.00382 0.01619 -0.00746 0.02382 C -0.01007 0.03746 -0.01302 0.05227 -0.01649 0.06568 C -0.01528 0.09112 -0.01684 0.11586 0.00451 0.12326 C 0.02465 0.14107 0.04705 0.14894 0.07014 0.15703 C 0.07899 0.16027 0.08785 0.16536 0.09705 0.16697 C 0.10226 0.1679 0.12465 0.17021 0.12986 0.17091 C 0.14323 0.17414 0.15695 0.17507 0.17014 0.179 C 0.18073 0.18201 0.19097 0.18756 0.20156 0.19079 C 0.20764 0.19634 0.21528 0.19796 0.2224 0.20074 C 0.23438 0.2056 0.24635 0.20976 0.25816 0.21462 C 0.26094 0.21716 0.26458 0.21785 0.26719 0.22063 C 0.27708 0.2308 0.28385 0.24769 0.2941 0.25647 C 0.29653 0.26711 0.30313 0.27313 0.30903 0.28029 C 0.31667 0.28931 0.32257 0.30203 0.33281 0.3062 C 0.33611 0.30758 0.33976 0.30758 0.34323 0.30828 C 0.36146 0.30666 0.36528 0.30643 0.37917 0.30227 C 0.39306 0.28955 0.40469 0.27428 0.41649 0.25856 C 0.42257 0.25046 0.42361 0.23867 0.42691 0.22872 C 0.42899 0.22248 0.43125 0.21739 0.43281 0.21068 C 0.43264 0.20629 0.42986 0.16235 0.42986 0.14315 E">
                                      <p:cBhvr>
                                        <p:cTn id="391" dur="20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93802E-007 C 0.01459 -0.00347 0.02795 -0.00995 0.04184 -0.01596 C 0.04427 -0.01689 0.04688 -0.01689 0.04931 -0.01781 C 0.05573 -0.01989 0.05191 -0.01966 0.05816 -0.02382 C 0.06285 -0.02706 0.06841 -0.0266 0.07309 -0.02984 C 0.08108 -0.03516 0.08924 -0.04048 0.09705 -0.0458 C 0.10209 -0.04926 0.10434 -0.05551 0.10886 -0.05967 C 0.11163 -0.06221 0.11511 -0.06314 0.11788 -0.06568 C 0.12101 -0.07424 0.12396 -0.0784 0.12986 -0.08349 C 0.13368 -0.10037 0.12813 -0.07979 0.13438 -0.09344 C 0.13525 -0.09529 0.13507 -0.0976 0.13577 -0.09945 C 0.13646 -0.10153 0.13768 -0.10338 0.13872 -0.10546 C 0.14132 -0.11864 0.1441 -0.12535 0.14028 -0.13923 C 0.13941 -0.14246 0.12969 -0.14593 0.12691 -0.14709 C 0.11841 -0.15079 0.11025 -0.15495 0.10139 -0.15703 C 0.0816 -0.15634 0.06163 -0.15657 0.04184 -0.15518 C 0.03282 -0.15449 0.01493 -0.15102 0.01493 -0.15102 C -0.00052 -0.15172 -0.01597 -0.15195 -0.03142 -0.1531 C -0.03732 -0.15357 -0.04236 -0.15842 -0.04774 -0.16097 C -0.05468 -0.16444 -0.06198 -0.16698 -0.06875 -0.17091 C -0.07413 -0.17392 -0.07812 -0.17854 -0.08368 -0.18086 C -0.08611 -0.18409 -0.08802 -0.18872 -0.09114 -0.1908 C -0.09531 -0.19381 -0.10312 -0.19889 -0.10607 -0.20283 C -0.11475 -0.21439 -0.12534 -0.23173 -0.13732 -0.23659 C -0.14878 -0.24654 -0.1342 -0.23474 -0.14774 -0.2426 C -0.14948 -0.24353 -0.15069 -0.24538 -0.15225 -0.24654 C -0.16267 -0.25347 -0.18212 -0.25833 -0.19409 -0.26249 C -0.21753 -0.2611 -0.225 -0.26296 -0.24323 -0.25463 C -0.24861 -0.25209 -0.25434 -0.25116 -0.25972 -0.24862 C -0.26267 -0.24723 -0.26875 -0.24468 -0.26875 -0.24468 E">
                                      <p:cBhvr>
                                        <p:cTn id="393" dur="3000" fill="hold"/>
                                        <p:tgtEl>
                                          <p:spTgt spid="1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486 C -0.02049 0.01874 -0.01858 0.01226 -0.02101 0.0229 C -0.02049 0.02822 -0.02066 0.03377 -0.01962 0.03886 C -0.01788 0.04765 -0.00729 0.0569 -0.00174 0.0606 C 0.00382 0.0643 0.01615 0.06661 0.01615 0.06661 C 0.02917 0.06476 0.04045 0.06245 0.05208 0.05458 C 0.05677 0.05135 0.06406 0.04071 0.06406 0.04071 C 0.06528 0.034 0.06684 0.02753 0.0684 0.02082 C 0.06753 0.00209 0.07031 -0.01225 0.0566 -0.01896 C 0.04236 -0.04509 0.01649 -0.04509 -0.00469 -0.05064 C -0.03663 -0.05897 -0.06528 -0.07793 -0.09722 -0.08441 C -0.11771 -0.09389 -0.14618 -0.08718 -0.16441 -0.08649 C -0.17187 -0.08395 -0.17778 -0.08186 -0.18524 -0.08048 C -0.19167 -0.07793 -0.19705 -0.07331 -0.20312 -0.07053 C -0.20712 -0.05573 -0.22135 -0.05411 -0.2316 -0.05064 C -0.24653 -0.05203 -0.26042 -0.05342 -0.27483 -0.05874 C -0.28646 -0.06313 -0.29861 -0.07192 -0.31059 -0.07446 C -0.31858 -0.07608 -0.32656 -0.07701 -0.33455 -0.07863 C -0.35399 -0.08672 -0.37413 -0.0962 -0.39444 -0.10037 C -0.40972 -0.10823 -0.42569 -0.11378 -0.44201 -0.11632 C -0.46493 -0.12442 -0.4875 -0.13413 -0.51059 -0.14222 C -0.52465 -0.14708 -0.53802 -0.15448 -0.55243 -0.15795 C -0.56389 -0.16558 -0.56389 -0.16766 -0.57326 -0.17599 C -0.58021 -0.18917 -0.58142 -0.20605 -0.58819 -0.2197 C -0.58941 -0.22548 -0.59045 -0.23658 -0.59271 -0.24167 C -0.59653 -0.25023 -0.60556 -0.25138 -0.61215 -0.25346 C -0.6309 -0.25161 -0.63351 -0.25231 -0.64653 -0.23959 C -0.65885 -0.22756 -0.65208 -0.23635 -0.65833 -0.22756 C -0.66024 -0.22039 -0.6592 -0.22363 -0.66146 -0.21762 E">
                                      <p:cBhvr>
                                        <p:cTn id="395" dur="2000" fill="hold"/>
                                        <p:tgtEl>
                                          <p:spTgt spid="1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3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0" dur="3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3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Step 12. Detec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DIG-labeled probes emitting minute amounts of light (chemiluminescenc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32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-labeled probes emitting </a:t>
            </a:r>
            <a:r>
              <a:rPr b="0" lang="el-GR" sz="2800" spc="-1" strike="noStrike">
                <a:solidFill>
                  <a:srgbClr val="ffffff"/>
                </a:solidFill>
                <a:latin typeface="Lucida Sans Unicode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-particles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Rectangle 4"/>
          <p:cNvSpPr/>
          <p:nvPr/>
        </p:nvSpPr>
        <p:spPr>
          <a:xfrm>
            <a:off x="4800600" y="90360"/>
            <a:ext cx="4114800" cy="6629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Oval 6"/>
          <p:cNvSpPr/>
          <p:nvPr/>
        </p:nvSpPr>
        <p:spPr>
          <a:xfrm>
            <a:off x="5977080" y="15494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Oval 7"/>
          <p:cNvSpPr/>
          <p:nvPr/>
        </p:nvSpPr>
        <p:spPr>
          <a:xfrm>
            <a:off x="5977080" y="19479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Oval 8"/>
          <p:cNvSpPr/>
          <p:nvPr/>
        </p:nvSpPr>
        <p:spPr>
          <a:xfrm>
            <a:off x="5977080" y="34052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Oval 9"/>
          <p:cNvSpPr/>
          <p:nvPr/>
        </p:nvSpPr>
        <p:spPr>
          <a:xfrm>
            <a:off x="5977080" y="4995720"/>
            <a:ext cx="1761840" cy="26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Oval 10"/>
          <p:cNvSpPr/>
          <p:nvPr/>
        </p:nvSpPr>
        <p:spPr>
          <a:xfrm>
            <a:off x="5977080" y="56595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4" name="Group 62"/>
          <p:cNvGrpSpPr/>
          <p:nvPr/>
        </p:nvGrpSpPr>
        <p:grpSpPr>
          <a:xfrm>
            <a:off x="6472080" y="1881360"/>
            <a:ext cx="852480" cy="3452760"/>
            <a:chOff x="6472080" y="1881360"/>
            <a:chExt cx="852480" cy="3452760"/>
          </a:xfrm>
        </p:grpSpPr>
        <p:grpSp>
          <p:nvGrpSpPr>
            <p:cNvPr id="1675" name="Group 42"/>
            <p:cNvGrpSpPr/>
            <p:nvPr/>
          </p:nvGrpSpPr>
          <p:grpSpPr>
            <a:xfrm>
              <a:off x="6943320" y="1905120"/>
              <a:ext cx="381240" cy="304560"/>
              <a:chOff x="6943320" y="1905120"/>
              <a:chExt cx="381240" cy="304560"/>
            </a:xfrm>
          </p:grpSpPr>
          <p:sp>
            <p:nvSpPr>
              <p:cNvPr id="1676" name="Oval 41"/>
              <p:cNvSpPr/>
              <p:nvPr/>
            </p:nvSpPr>
            <p:spPr>
              <a:xfrm>
                <a:off x="6943320" y="1905120"/>
                <a:ext cx="38124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AutoShape 38"/>
              <p:cNvSpPr/>
              <p:nvPr/>
            </p:nvSpPr>
            <p:spPr>
              <a:xfrm>
                <a:off x="7070040" y="204336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AutoShape 39"/>
              <p:cNvSpPr/>
              <p:nvPr/>
            </p:nvSpPr>
            <p:spPr>
              <a:xfrm rot="6633600">
                <a:off x="7014600" y="195228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9" name="AutoShape 40"/>
              <p:cNvSpPr/>
              <p:nvPr/>
            </p:nvSpPr>
            <p:spPr>
              <a:xfrm rot="14876400">
                <a:off x="7141320" y="195192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80" name="Group 43"/>
            <p:cNvGrpSpPr/>
            <p:nvPr/>
          </p:nvGrpSpPr>
          <p:grpSpPr>
            <a:xfrm>
              <a:off x="6943320" y="3352680"/>
              <a:ext cx="381240" cy="304920"/>
              <a:chOff x="6943320" y="3352680"/>
              <a:chExt cx="381240" cy="304920"/>
            </a:xfrm>
          </p:grpSpPr>
          <p:sp>
            <p:nvSpPr>
              <p:cNvPr id="1681" name="Oval 44"/>
              <p:cNvSpPr/>
              <p:nvPr/>
            </p:nvSpPr>
            <p:spPr>
              <a:xfrm>
                <a:off x="6943320" y="3352680"/>
                <a:ext cx="38124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2" name="AutoShape 45"/>
              <p:cNvSpPr/>
              <p:nvPr/>
            </p:nvSpPr>
            <p:spPr>
              <a:xfrm>
                <a:off x="7070040" y="349128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3" name="AutoShape 46"/>
              <p:cNvSpPr/>
              <p:nvPr/>
            </p:nvSpPr>
            <p:spPr>
              <a:xfrm rot="6633600">
                <a:off x="7014600" y="339984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4" name="AutoShape 47"/>
              <p:cNvSpPr/>
              <p:nvPr/>
            </p:nvSpPr>
            <p:spPr>
              <a:xfrm rot="14876400">
                <a:off x="7141320" y="339948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85" name="Group 48"/>
            <p:cNvGrpSpPr/>
            <p:nvPr/>
          </p:nvGrpSpPr>
          <p:grpSpPr>
            <a:xfrm>
              <a:off x="6943320" y="4952880"/>
              <a:ext cx="381240" cy="304920"/>
              <a:chOff x="6943320" y="4952880"/>
              <a:chExt cx="381240" cy="304920"/>
            </a:xfrm>
          </p:grpSpPr>
          <p:sp>
            <p:nvSpPr>
              <p:cNvPr id="1686" name="Oval 49"/>
              <p:cNvSpPr/>
              <p:nvPr/>
            </p:nvSpPr>
            <p:spPr>
              <a:xfrm>
                <a:off x="6943320" y="4952880"/>
                <a:ext cx="38124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7" name="AutoShape 50"/>
              <p:cNvSpPr/>
              <p:nvPr/>
            </p:nvSpPr>
            <p:spPr>
              <a:xfrm>
                <a:off x="7070040" y="509148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8" name="AutoShape 51"/>
              <p:cNvSpPr/>
              <p:nvPr/>
            </p:nvSpPr>
            <p:spPr>
              <a:xfrm rot="6633600">
                <a:off x="7014600" y="500004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9" name="AutoShape 52"/>
              <p:cNvSpPr/>
              <p:nvPr/>
            </p:nvSpPr>
            <p:spPr>
              <a:xfrm rot="14876400">
                <a:off x="7141320" y="499968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90" name="Litebulb"/>
            <p:cNvSpPr/>
            <p:nvPr/>
          </p:nvSpPr>
          <p:spPr>
            <a:xfrm>
              <a:off x="6472080" y="327672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Litebulb"/>
            <p:cNvSpPr/>
            <p:nvPr/>
          </p:nvSpPr>
          <p:spPr>
            <a:xfrm>
              <a:off x="6472080" y="188136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Litebulb"/>
            <p:cNvSpPr/>
            <p:nvPr/>
          </p:nvSpPr>
          <p:spPr>
            <a:xfrm>
              <a:off x="6472080" y="485316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Step 12. Detec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DIG-labeled probes emitting minute amounts of light (chemiluminescenc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Lucida Sans Unicode"/>
              </a:rPr>
              <a:t>32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-labeled probes emitting ß-particles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utoradiography film can detect this radi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Rectangle 5"/>
          <p:cNvSpPr/>
          <p:nvPr/>
        </p:nvSpPr>
        <p:spPr>
          <a:xfrm>
            <a:off x="4800600" y="90360"/>
            <a:ext cx="4114800" cy="6629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Oval 6"/>
          <p:cNvSpPr/>
          <p:nvPr/>
        </p:nvSpPr>
        <p:spPr>
          <a:xfrm>
            <a:off x="5977080" y="15494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Oval 7"/>
          <p:cNvSpPr/>
          <p:nvPr/>
        </p:nvSpPr>
        <p:spPr>
          <a:xfrm>
            <a:off x="5977080" y="19479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Oval 8"/>
          <p:cNvSpPr/>
          <p:nvPr/>
        </p:nvSpPr>
        <p:spPr>
          <a:xfrm>
            <a:off x="5977080" y="34052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Oval 9"/>
          <p:cNvSpPr/>
          <p:nvPr/>
        </p:nvSpPr>
        <p:spPr>
          <a:xfrm>
            <a:off x="5977080" y="4995720"/>
            <a:ext cx="1761840" cy="26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Oval 10"/>
          <p:cNvSpPr/>
          <p:nvPr/>
        </p:nvSpPr>
        <p:spPr>
          <a:xfrm>
            <a:off x="5977080" y="56595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1" name="Group 11"/>
          <p:cNvGrpSpPr/>
          <p:nvPr/>
        </p:nvGrpSpPr>
        <p:grpSpPr>
          <a:xfrm>
            <a:off x="6943680" y="1905120"/>
            <a:ext cx="380880" cy="304560"/>
            <a:chOff x="6943680" y="1905120"/>
            <a:chExt cx="380880" cy="304560"/>
          </a:xfrm>
        </p:grpSpPr>
        <p:sp>
          <p:nvSpPr>
            <p:cNvPr id="1702" name="Oval 12"/>
            <p:cNvSpPr/>
            <p:nvPr/>
          </p:nvSpPr>
          <p:spPr>
            <a:xfrm>
              <a:off x="6943680" y="1905120"/>
              <a:ext cx="38088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3" name="AutoShape 13"/>
            <p:cNvSpPr/>
            <p:nvPr/>
          </p:nvSpPr>
          <p:spPr>
            <a:xfrm>
              <a:off x="7070400" y="2043360"/>
              <a:ext cx="127080" cy="110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4" name="AutoShape 14"/>
            <p:cNvSpPr/>
            <p:nvPr/>
          </p:nvSpPr>
          <p:spPr>
            <a:xfrm rot="6633600">
              <a:off x="7014960" y="1952280"/>
              <a:ext cx="110520" cy="127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5" name="AutoShape 15"/>
            <p:cNvSpPr/>
            <p:nvPr/>
          </p:nvSpPr>
          <p:spPr>
            <a:xfrm rot="14876400">
              <a:off x="7141680" y="1951920"/>
              <a:ext cx="110520" cy="126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6" name="Group 16"/>
          <p:cNvGrpSpPr/>
          <p:nvPr/>
        </p:nvGrpSpPr>
        <p:grpSpPr>
          <a:xfrm>
            <a:off x="6943680" y="3352680"/>
            <a:ext cx="380880" cy="304920"/>
            <a:chOff x="6943680" y="3352680"/>
            <a:chExt cx="380880" cy="304920"/>
          </a:xfrm>
        </p:grpSpPr>
        <p:sp>
          <p:nvSpPr>
            <p:cNvPr id="1707" name="Oval 17"/>
            <p:cNvSpPr/>
            <p:nvPr/>
          </p:nvSpPr>
          <p:spPr>
            <a:xfrm>
              <a:off x="6943680" y="3352680"/>
              <a:ext cx="38088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8" name="AutoShape 18"/>
            <p:cNvSpPr/>
            <p:nvPr/>
          </p:nvSpPr>
          <p:spPr>
            <a:xfrm>
              <a:off x="7070400" y="3491280"/>
              <a:ext cx="127080" cy="110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9" name="AutoShape 19"/>
            <p:cNvSpPr/>
            <p:nvPr/>
          </p:nvSpPr>
          <p:spPr>
            <a:xfrm rot="6633600">
              <a:off x="7014960" y="3399840"/>
              <a:ext cx="110520" cy="127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0" name="AutoShape 20"/>
            <p:cNvSpPr/>
            <p:nvPr/>
          </p:nvSpPr>
          <p:spPr>
            <a:xfrm rot="14876400">
              <a:off x="7141680" y="3399480"/>
              <a:ext cx="110520" cy="126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11" name="Group 21"/>
          <p:cNvGrpSpPr/>
          <p:nvPr/>
        </p:nvGrpSpPr>
        <p:grpSpPr>
          <a:xfrm>
            <a:off x="6943680" y="4952880"/>
            <a:ext cx="380880" cy="304920"/>
            <a:chOff x="6943680" y="4952880"/>
            <a:chExt cx="380880" cy="304920"/>
          </a:xfrm>
        </p:grpSpPr>
        <p:sp>
          <p:nvSpPr>
            <p:cNvPr id="1712" name="Oval 22"/>
            <p:cNvSpPr/>
            <p:nvPr/>
          </p:nvSpPr>
          <p:spPr>
            <a:xfrm>
              <a:off x="6943680" y="4952880"/>
              <a:ext cx="38088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3" name="AutoShape 23"/>
            <p:cNvSpPr/>
            <p:nvPr/>
          </p:nvSpPr>
          <p:spPr>
            <a:xfrm>
              <a:off x="7070400" y="5091480"/>
              <a:ext cx="127080" cy="110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4" name="AutoShape 24"/>
            <p:cNvSpPr/>
            <p:nvPr/>
          </p:nvSpPr>
          <p:spPr>
            <a:xfrm rot="6633600">
              <a:off x="7014960" y="5000040"/>
              <a:ext cx="110520" cy="127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5" name="AutoShape 25"/>
            <p:cNvSpPr/>
            <p:nvPr/>
          </p:nvSpPr>
          <p:spPr>
            <a:xfrm rot="14876400">
              <a:off x="7141680" y="4999680"/>
              <a:ext cx="110520" cy="126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16" name="Litebulb"/>
          <p:cNvSpPr/>
          <p:nvPr/>
        </p:nvSpPr>
        <p:spPr>
          <a:xfrm>
            <a:off x="6472080" y="3276720"/>
            <a:ext cx="395280" cy="480960"/>
          </a:xfrm>
          <a:custGeom>
            <a:avLst/>
            <a:gdLst>
              <a:gd name="textAreaLeft" fmla="*/ 64800 w 395280"/>
              <a:gd name="textAreaRight" fmla="*/ 334440 w 395280"/>
              <a:gd name="textAreaTop" fmla="*/ 48600 h 480960"/>
              <a:gd name="textAreaBottom" fmla="*/ 206640 h 4809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Litebulb"/>
          <p:cNvSpPr/>
          <p:nvPr/>
        </p:nvSpPr>
        <p:spPr>
          <a:xfrm>
            <a:off x="6472080" y="1881360"/>
            <a:ext cx="395280" cy="480960"/>
          </a:xfrm>
          <a:custGeom>
            <a:avLst/>
            <a:gdLst>
              <a:gd name="textAreaLeft" fmla="*/ 64800 w 395280"/>
              <a:gd name="textAreaRight" fmla="*/ 334440 w 395280"/>
              <a:gd name="textAreaTop" fmla="*/ 48600 h 480960"/>
              <a:gd name="textAreaBottom" fmla="*/ 206640 h 4809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Litebulb"/>
          <p:cNvSpPr/>
          <p:nvPr/>
        </p:nvSpPr>
        <p:spPr>
          <a:xfrm>
            <a:off x="6472080" y="4853160"/>
            <a:ext cx="395280" cy="480960"/>
          </a:xfrm>
          <a:custGeom>
            <a:avLst/>
            <a:gdLst>
              <a:gd name="textAreaLeft" fmla="*/ 64800 w 395280"/>
              <a:gd name="textAreaRight" fmla="*/ 334440 w 395280"/>
              <a:gd name="textAreaTop" fmla="*/ 48600 h 480960"/>
              <a:gd name="textAreaBottom" fmla="*/ 206640 h 4809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Rectangle 29"/>
          <p:cNvSpPr/>
          <p:nvPr/>
        </p:nvSpPr>
        <p:spPr>
          <a:xfrm>
            <a:off x="5114880" y="457200"/>
            <a:ext cx="3429000" cy="5943600"/>
          </a:xfrm>
          <a:prstGeom prst="rect">
            <a:avLst/>
          </a:prstGeom>
          <a:solidFill>
            <a:srgbClr val="7f83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Oval 30"/>
          <p:cNvSpPr/>
          <p:nvPr/>
        </p:nvSpPr>
        <p:spPr>
          <a:xfrm>
            <a:off x="5952960" y="3392640"/>
            <a:ext cx="1762200" cy="264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Oval 31"/>
          <p:cNvSpPr/>
          <p:nvPr/>
        </p:nvSpPr>
        <p:spPr>
          <a:xfrm>
            <a:off x="5952960" y="1944720"/>
            <a:ext cx="1762200" cy="264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Oval 32"/>
          <p:cNvSpPr/>
          <p:nvPr/>
        </p:nvSpPr>
        <p:spPr>
          <a:xfrm>
            <a:off x="5952960" y="4992840"/>
            <a:ext cx="1762200" cy="264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3" name="Group 41"/>
          <p:cNvGrpSpPr/>
          <p:nvPr/>
        </p:nvGrpSpPr>
        <p:grpSpPr>
          <a:xfrm>
            <a:off x="5181480" y="457200"/>
            <a:ext cx="3429000" cy="5943600"/>
            <a:chOff x="5181480" y="457200"/>
            <a:chExt cx="3429000" cy="5943600"/>
          </a:xfrm>
        </p:grpSpPr>
        <p:sp>
          <p:nvSpPr>
            <p:cNvPr id="1724" name="Oval 7"/>
            <p:cNvSpPr/>
            <p:nvPr/>
          </p:nvSpPr>
          <p:spPr>
            <a:xfrm>
              <a:off x="5967360" y="1947960"/>
              <a:ext cx="1762200" cy="264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Oval 8"/>
            <p:cNvSpPr/>
            <p:nvPr/>
          </p:nvSpPr>
          <p:spPr>
            <a:xfrm>
              <a:off x="5967360" y="3405240"/>
              <a:ext cx="1762200" cy="264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Oval 9"/>
            <p:cNvSpPr/>
            <p:nvPr/>
          </p:nvSpPr>
          <p:spPr>
            <a:xfrm>
              <a:off x="5967360" y="4995720"/>
              <a:ext cx="1762200" cy="26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27" name="Group 11"/>
            <p:cNvGrpSpPr/>
            <p:nvPr/>
          </p:nvGrpSpPr>
          <p:grpSpPr>
            <a:xfrm>
              <a:off x="6933960" y="1905120"/>
              <a:ext cx="381240" cy="304560"/>
              <a:chOff x="6933960" y="1905120"/>
              <a:chExt cx="381240" cy="304560"/>
            </a:xfrm>
          </p:grpSpPr>
          <p:sp>
            <p:nvSpPr>
              <p:cNvPr id="1728" name="Oval 12"/>
              <p:cNvSpPr/>
              <p:nvPr/>
            </p:nvSpPr>
            <p:spPr>
              <a:xfrm>
                <a:off x="6933960" y="1905120"/>
                <a:ext cx="38124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9" name="AutoShape 13"/>
              <p:cNvSpPr/>
              <p:nvPr/>
            </p:nvSpPr>
            <p:spPr>
              <a:xfrm>
                <a:off x="7060680" y="204336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0" name="AutoShape 14"/>
              <p:cNvSpPr/>
              <p:nvPr/>
            </p:nvSpPr>
            <p:spPr>
              <a:xfrm rot="6633600">
                <a:off x="7005240" y="195228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1" name="AutoShape 15"/>
              <p:cNvSpPr/>
              <p:nvPr/>
            </p:nvSpPr>
            <p:spPr>
              <a:xfrm rot="14876400">
                <a:off x="7131960" y="195192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2" name="Group 16"/>
            <p:cNvGrpSpPr/>
            <p:nvPr/>
          </p:nvGrpSpPr>
          <p:grpSpPr>
            <a:xfrm>
              <a:off x="6933960" y="3352680"/>
              <a:ext cx="381240" cy="304920"/>
              <a:chOff x="6933960" y="3352680"/>
              <a:chExt cx="381240" cy="304920"/>
            </a:xfrm>
          </p:grpSpPr>
          <p:sp>
            <p:nvSpPr>
              <p:cNvPr id="1733" name="Oval 17"/>
              <p:cNvSpPr/>
              <p:nvPr/>
            </p:nvSpPr>
            <p:spPr>
              <a:xfrm>
                <a:off x="6933960" y="3352680"/>
                <a:ext cx="38124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4" name="AutoShape 18"/>
              <p:cNvSpPr/>
              <p:nvPr/>
            </p:nvSpPr>
            <p:spPr>
              <a:xfrm>
                <a:off x="7060680" y="349128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5" name="AutoShape 19"/>
              <p:cNvSpPr/>
              <p:nvPr/>
            </p:nvSpPr>
            <p:spPr>
              <a:xfrm rot="6633600">
                <a:off x="7005240" y="339984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6" name="AutoShape 20"/>
              <p:cNvSpPr/>
              <p:nvPr/>
            </p:nvSpPr>
            <p:spPr>
              <a:xfrm rot="14876400">
                <a:off x="7131960" y="339948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7" name="Group 21"/>
            <p:cNvGrpSpPr/>
            <p:nvPr/>
          </p:nvGrpSpPr>
          <p:grpSpPr>
            <a:xfrm>
              <a:off x="6933960" y="4952880"/>
              <a:ext cx="381240" cy="304920"/>
              <a:chOff x="6933960" y="4952880"/>
              <a:chExt cx="381240" cy="304920"/>
            </a:xfrm>
          </p:grpSpPr>
          <p:sp>
            <p:nvSpPr>
              <p:cNvPr id="1738" name="Oval 22"/>
              <p:cNvSpPr/>
              <p:nvPr/>
            </p:nvSpPr>
            <p:spPr>
              <a:xfrm>
                <a:off x="6933960" y="4952880"/>
                <a:ext cx="38124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9" name="AutoShape 23"/>
              <p:cNvSpPr/>
              <p:nvPr/>
            </p:nvSpPr>
            <p:spPr>
              <a:xfrm>
                <a:off x="7060680" y="5091480"/>
                <a:ext cx="127080" cy="11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0" name="AutoShape 24"/>
              <p:cNvSpPr/>
              <p:nvPr/>
            </p:nvSpPr>
            <p:spPr>
              <a:xfrm rot="6633600">
                <a:off x="7005240" y="5000040"/>
                <a:ext cx="110520" cy="12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1" name="AutoShape 25"/>
              <p:cNvSpPr/>
              <p:nvPr/>
            </p:nvSpPr>
            <p:spPr>
              <a:xfrm rot="14876400">
                <a:off x="7131960" y="4999680"/>
                <a:ext cx="110520" cy="12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42" name="Litebulb"/>
            <p:cNvSpPr/>
            <p:nvPr/>
          </p:nvSpPr>
          <p:spPr>
            <a:xfrm>
              <a:off x="6462720" y="327672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3" name="Litebulb"/>
            <p:cNvSpPr/>
            <p:nvPr/>
          </p:nvSpPr>
          <p:spPr>
            <a:xfrm>
              <a:off x="6462720" y="188136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4" name="Litebulb"/>
            <p:cNvSpPr/>
            <p:nvPr/>
          </p:nvSpPr>
          <p:spPr>
            <a:xfrm>
              <a:off x="6462720" y="4853160"/>
              <a:ext cx="395280" cy="480960"/>
            </a:xfrm>
            <a:custGeom>
              <a:avLst/>
              <a:gdLst>
                <a:gd name="textAreaLeft" fmla="*/ 64800 w 395280"/>
                <a:gd name="textAreaRight" fmla="*/ 335160 w 395280"/>
                <a:gd name="textAreaTop" fmla="*/ 48960 h 480960"/>
                <a:gd name="textAreaBottom" fmla="*/ 20628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25" y="21723"/>
                  </a:moveTo>
                  <a:lnTo>
                    <a:pt x="11215" y="21723"/>
                  </a:lnTo>
                  <a:lnTo>
                    <a:pt x="11552" y="21688"/>
                  </a:lnTo>
                  <a:lnTo>
                    <a:pt x="11916" y="21617"/>
                  </a:lnTo>
                  <a:lnTo>
                    <a:pt x="12253" y="21547"/>
                  </a:lnTo>
                  <a:lnTo>
                    <a:pt x="12617" y="21441"/>
                  </a:lnTo>
                  <a:lnTo>
                    <a:pt x="12902" y="21317"/>
                  </a:lnTo>
                  <a:lnTo>
                    <a:pt x="13162" y="21176"/>
                  </a:lnTo>
                  <a:lnTo>
                    <a:pt x="13396" y="21000"/>
                  </a:lnTo>
                  <a:lnTo>
                    <a:pt x="13655" y="20841"/>
                  </a:lnTo>
                  <a:lnTo>
                    <a:pt x="13863" y="20629"/>
                  </a:lnTo>
                  <a:lnTo>
                    <a:pt x="14045" y="20435"/>
                  </a:lnTo>
                  <a:lnTo>
                    <a:pt x="14200" y="20223"/>
                  </a:lnTo>
                  <a:lnTo>
                    <a:pt x="14356" y="19994"/>
                  </a:lnTo>
                  <a:lnTo>
                    <a:pt x="14460" y="19747"/>
                  </a:lnTo>
                  <a:lnTo>
                    <a:pt x="14512" y="19482"/>
                  </a:lnTo>
                  <a:lnTo>
                    <a:pt x="14512" y="19235"/>
                  </a:lnTo>
                  <a:lnTo>
                    <a:pt x="14512" y="19147"/>
                  </a:lnTo>
                  <a:lnTo>
                    <a:pt x="14512" y="18900"/>
                  </a:lnTo>
                  <a:lnTo>
                    <a:pt x="14512" y="18529"/>
                  </a:lnTo>
                  <a:lnTo>
                    <a:pt x="14512" y="18052"/>
                  </a:lnTo>
                  <a:lnTo>
                    <a:pt x="14512" y="17505"/>
                  </a:lnTo>
                  <a:lnTo>
                    <a:pt x="14512" y="16976"/>
                  </a:lnTo>
                  <a:lnTo>
                    <a:pt x="14512" y="16464"/>
                  </a:lnTo>
                  <a:lnTo>
                    <a:pt x="14512" y="15952"/>
                  </a:lnTo>
                  <a:lnTo>
                    <a:pt x="14512" y="15758"/>
                  </a:lnTo>
                  <a:lnTo>
                    <a:pt x="14616" y="15547"/>
                  </a:lnTo>
                  <a:lnTo>
                    <a:pt x="14694" y="15352"/>
                  </a:lnTo>
                  <a:lnTo>
                    <a:pt x="14798" y="15141"/>
                  </a:lnTo>
                  <a:lnTo>
                    <a:pt x="15161" y="14735"/>
                  </a:lnTo>
                  <a:lnTo>
                    <a:pt x="15602" y="14329"/>
                  </a:lnTo>
                  <a:lnTo>
                    <a:pt x="16745" y="13552"/>
                  </a:lnTo>
                  <a:lnTo>
                    <a:pt x="18043" y="12670"/>
                  </a:lnTo>
                  <a:lnTo>
                    <a:pt x="18744" y="12194"/>
                  </a:lnTo>
                  <a:lnTo>
                    <a:pt x="19341" y="11647"/>
                  </a:lnTo>
                  <a:lnTo>
                    <a:pt x="19938" y="11099"/>
                  </a:lnTo>
                  <a:lnTo>
                    <a:pt x="20483" y="10464"/>
                  </a:lnTo>
                  <a:lnTo>
                    <a:pt x="20743" y="10164"/>
                  </a:lnTo>
                  <a:lnTo>
                    <a:pt x="20950" y="9794"/>
                  </a:lnTo>
                  <a:lnTo>
                    <a:pt x="21132" y="9441"/>
                  </a:lnTo>
                  <a:lnTo>
                    <a:pt x="21288" y="9035"/>
                  </a:lnTo>
                  <a:lnTo>
                    <a:pt x="21444" y="8664"/>
                  </a:lnTo>
                  <a:lnTo>
                    <a:pt x="21548" y="8223"/>
                  </a:lnTo>
                  <a:lnTo>
                    <a:pt x="21600" y="7782"/>
                  </a:lnTo>
                  <a:lnTo>
                    <a:pt x="21600" y="7341"/>
                  </a:lnTo>
                  <a:lnTo>
                    <a:pt x="21600" y="6935"/>
                  </a:lnTo>
                  <a:lnTo>
                    <a:pt x="21548" y="6564"/>
                  </a:lnTo>
                  <a:lnTo>
                    <a:pt x="21496" y="6229"/>
                  </a:lnTo>
                  <a:lnTo>
                    <a:pt x="21392" y="5858"/>
                  </a:lnTo>
                  <a:lnTo>
                    <a:pt x="21288" y="5523"/>
                  </a:lnTo>
                  <a:lnTo>
                    <a:pt x="21132" y="5135"/>
                  </a:lnTo>
                  <a:lnTo>
                    <a:pt x="20950" y="4800"/>
                  </a:lnTo>
                  <a:lnTo>
                    <a:pt x="20743" y="4464"/>
                  </a:lnTo>
                  <a:lnTo>
                    <a:pt x="20535" y="4164"/>
                  </a:lnTo>
                  <a:lnTo>
                    <a:pt x="20301" y="3847"/>
                  </a:lnTo>
                  <a:lnTo>
                    <a:pt x="20042" y="3547"/>
                  </a:lnTo>
                  <a:lnTo>
                    <a:pt x="19782" y="3247"/>
                  </a:lnTo>
                  <a:lnTo>
                    <a:pt x="19133" y="2664"/>
                  </a:lnTo>
                  <a:lnTo>
                    <a:pt x="18458" y="2152"/>
                  </a:lnTo>
                  <a:lnTo>
                    <a:pt x="17705" y="1694"/>
                  </a:lnTo>
                  <a:lnTo>
                    <a:pt x="16849" y="1252"/>
                  </a:lnTo>
                  <a:lnTo>
                    <a:pt x="16407" y="1076"/>
                  </a:lnTo>
                  <a:lnTo>
                    <a:pt x="15940" y="900"/>
                  </a:lnTo>
                  <a:lnTo>
                    <a:pt x="15499" y="741"/>
                  </a:lnTo>
                  <a:lnTo>
                    <a:pt x="15057" y="600"/>
                  </a:lnTo>
                  <a:lnTo>
                    <a:pt x="14564" y="458"/>
                  </a:lnTo>
                  <a:lnTo>
                    <a:pt x="14045" y="335"/>
                  </a:lnTo>
                  <a:lnTo>
                    <a:pt x="13500" y="229"/>
                  </a:lnTo>
                  <a:lnTo>
                    <a:pt x="13006" y="158"/>
                  </a:lnTo>
                  <a:lnTo>
                    <a:pt x="12461" y="88"/>
                  </a:lnTo>
                  <a:lnTo>
                    <a:pt x="11968" y="52"/>
                  </a:lnTo>
                  <a:lnTo>
                    <a:pt x="11423" y="17"/>
                  </a:lnTo>
                  <a:lnTo>
                    <a:pt x="10825" y="17"/>
                  </a:lnTo>
                  <a:lnTo>
                    <a:pt x="10254" y="17"/>
                  </a:lnTo>
                  <a:lnTo>
                    <a:pt x="9709" y="52"/>
                  </a:lnTo>
                  <a:lnTo>
                    <a:pt x="9216" y="88"/>
                  </a:lnTo>
                  <a:lnTo>
                    <a:pt x="8671" y="158"/>
                  </a:lnTo>
                  <a:lnTo>
                    <a:pt x="8177" y="229"/>
                  </a:lnTo>
                  <a:lnTo>
                    <a:pt x="7632" y="335"/>
                  </a:lnTo>
                  <a:lnTo>
                    <a:pt x="7113" y="458"/>
                  </a:lnTo>
                  <a:lnTo>
                    <a:pt x="6620" y="600"/>
                  </a:lnTo>
                  <a:lnTo>
                    <a:pt x="6178" y="741"/>
                  </a:lnTo>
                  <a:lnTo>
                    <a:pt x="5737" y="900"/>
                  </a:lnTo>
                  <a:lnTo>
                    <a:pt x="5270" y="1076"/>
                  </a:lnTo>
                  <a:lnTo>
                    <a:pt x="4828" y="1252"/>
                  </a:lnTo>
                  <a:lnTo>
                    <a:pt x="3972" y="1694"/>
                  </a:lnTo>
                  <a:lnTo>
                    <a:pt x="3219" y="2152"/>
                  </a:lnTo>
                  <a:lnTo>
                    <a:pt x="2544" y="2664"/>
                  </a:lnTo>
                  <a:lnTo>
                    <a:pt x="1895" y="3247"/>
                  </a:lnTo>
                  <a:lnTo>
                    <a:pt x="1635" y="3547"/>
                  </a:lnTo>
                  <a:lnTo>
                    <a:pt x="1375" y="3847"/>
                  </a:lnTo>
                  <a:lnTo>
                    <a:pt x="1142" y="4164"/>
                  </a:lnTo>
                  <a:lnTo>
                    <a:pt x="934" y="4464"/>
                  </a:lnTo>
                  <a:lnTo>
                    <a:pt x="726" y="4800"/>
                  </a:lnTo>
                  <a:lnTo>
                    <a:pt x="545" y="5135"/>
                  </a:lnTo>
                  <a:lnTo>
                    <a:pt x="389" y="5523"/>
                  </a:lnTo>
                  <a:lnTo>
                    <a:pt x="285" y="5858"/>
                  </a:lnTo>
                  <a:lnTo>
                    <a:pt x="181" y="6229"/>
                  </a:lnTo>
                  <a:lnTo>
                    <a:pt x="129" y="6564"/>
                  </a:lnTo>
                  <a:lnTo>
                    <a:pt x="77" y="6935"/>
                  </a:lnTo>
                  <a:lnTo>
                    <a:pt x="77" y="7341"/>
                  </a:lnTo>
                  <a:lnTo>
                    <a:pt x="77" y="7782"/>
                  </a:lnTo>
                  <a:lnTo>
                    <a:pt x="129" y="8223"/>
                  </a:lnTo>
                  <a:lnTo>
                    <a:pt x="233" y="8664"/>
                  </a:lnTo>
                  <a:lnTo>
                    <a:pt x="389" y="9035"/>
                  </a:lnTo>
                  <a:lnTo>
                    <a:pt x="545" y="9441"/>
                  </a:lnTo>
                  <a:lnTo>
                    <a:pt x="726" y="9794"/>
                  </a:lnTo>
                  <a:lnTo>
                    <a:pt x="934" y="10164"/>
                  </a:lnTo>
                  <a:lnTo>
                    <a:pt x="1194" y="10464"/>
                  </a:lnTo>
                  <a:lnTo>
                    <a:pt x="1739" y="11099"/>
                  </a:lnTo>
                  <a:lnTo>
                    <a:pt x="2336" y="11647"/>
                  </a:lnTo>
                  <a:lnTo>
                    <a:pt x="2933" y="12194"/>
                  </a:lnTo>
                  <a:lnTo>
                    <a:pt x="3634" y="12670"/>
                  </a:lnTo>
                  <a:lnTo>
                    <a:pt x="4932" y="13552"/>
                  </a:lnTo>
                  <a:lnTo>
                    <a:pt x="6075" y="14329"/>
                  </a:lnTo>
                  <a:lnTo>
                    <a:pt x="6516" y="14735"/>
                  </a:lnTo>
                  <a:lnTo>
                    <a:pt x="6879" y="15141"/>
                  </a:lnTo>
                  <a:lnTo>
                    <a:pt x="6983" y="15352"/>
                  </a:lnTo>
                  <a:lnTo>
                    <a:pt x="7061" y="15547"/>
                  </a:lnTo>
                  <a:lnTo>
                    <a:pt x="7165" y="15758"/>
                  </a:lnTo>
                  <a:lnTo>
                    <a:pt x="7165" y="15952"/>
                  </a:lnTo>
                  <a:lnTo>
                    <a:pt x="7165" y="16464"/>
                  </a:lnTo>
                  <a:lnTo>
                    <a:pt x="7165" y="16976"/>
                  </a:lnTo>
                  <a:lnTo>
                    <a:pt x="7165" y="17505"/>
                  </a:lnTo>
                  <a:lnTo>
                    <a:pt x="7165" y="18052"/>
                  </a:lnTo>
                  <a:lnTo>
                    <a:pt x="7165" y="18529"/>
                  </a:lnTo>
                  <a:lnTo>
                    <a:pt x="7165" y="18900"/>
                  </a:lnTo>
                  <a:lnTo>
                    <a:pt x="7165" y="19147"/>
                  </a:lnTo>
                  <a:lnTo>
                    <a:pt x="7165" y="19235"/>
                  </a:lnTo>
                  <a:lnTo>
                    <a:pt x="7165" y="19482"/>
                  </a:lnTo>
                  <a:lnTo>
                    <a:pt x="7217" y="19747"/>
                  </a:lnTo>
                  <a:lnTo>
                    <a:pt x="7321" y="19994"/>
                  </a:lnTo>
                  <a:lnTo>
                    <a:pt x="7476" y="20223"/>
                  </a:lnTo>
                  <a:lnTo>
                    <a:pt x="7632" y="20435"/>
                  </a:lnTo>
                  <a:lnTo>
                    <a:pt x="7814" y="20629"/>
                  </a:lnTo>
                  <a:lnTo>
                    <a:pt x="8022" y="20841"/>
                  </a:lnTo>
                  <a:lnTo>
                    <a:pt x="8281" y="21000"/>
                  </a:lnTo>
                  <a:lnTo>
                    <a:pt x="8515" y="21176"/>
                  </a:lnTo>
                  <a:lnTo>
                    <a:pt x="8775" y="21317"/>
                  </a:lnTo>
                  <a:lnTo>
                    <a:pt x="9060" y="21441"/>
                  </a:lnTo>
                  <a:lnTo>
                    <a:pt x="9424" y="21547"/>
                  </a:lnTo>
                  <a:lnTo>
                    <a:pt x="9761" y="21617"/>
                  </a:lnTo>
                  <a:lnTo>
                    <a:pt x="10125" y="21688"/>
                  </a:lnTo>
                  <a:lnTo>
                    <a:pt x="10462" y="21723"/>
                  </a:lnTo>
                  <a:lnTo>
                    <a:pt x="10825" y="21723"/>
                  </a:lnTo>
                  <a:close/>
                </a:path>
                <a:path w="21600" h="21600">
                  <a:moveTo>
                    <a:pt x="9242" y="14417"/>
                  </a:moveTo>
                  <a:lnTo>
                    <a:pt x="8541" y="12035"/>
                  </a:lnTo>
                  <a:lnTo>
                    <a:pt x="7295" y="10129"/>
                  </a:lnTo>
                  <a:lnTo>
                    <a:pt x="6905" y="9652"/>
                  </a:lnTo>
                  <a:lnTo>
                    <a:pt x="8541" y="10182"/>
                  </a:lnTo>
                  <a:lnTo>
                    <a:pt x="9787" y="9547"/>
                  </a:lnTo>
                  <a:lnTo>
                    <a:pt x="11189" y="10129"/>
                  </a:lnTo>
                  <a:lnTo>
                    <a:pt x="12279" y="9547"/>
                  </a:lnTo>
                  <a:lnTo>
                    <a:pt x="13370" y="10076"/>
                  </a:lnTo>
                  <a:lnTo>
                    <a:pt x="14850" y="9652"/>
                  </a:lnTo>
                  <a:lnTo>
                    <a:pt x="12902" y="12247"/>
                  </a:lnTo>
                  <a:lnTo>
                    <a:pt x="12357" y="14417"/>
                  </a:lnTo>
                  <a:moveTo>
                    <a:pt x="7191" y="15952"/>
                  </a:moveTo>
                  <a:lnTo>
                    <a:pt x="14512" y="15952"/>
                  </a:lnTo>
                  <a:lnTo>
                    <a:pt x="14512" y="17064"/>
                  </a:lnTo>
                  <a:lnTo>
                    <a:pt x="7191" y="17047"/>
                  </a:lnTo>
                  <a:lnTo>
                    <a:pt x="7191" y="18123"/>
                  </a:lnTo>
                  <a:lnTo>
                    <a:pt x="14512" y="18158"/>
                  </a:lnTo>
                  <a:lnTo>
                    <a:pt x="14538" y="19182"/>
                  </a:lnTo>
                  <a:lnTo>
                    <a:pt x="7217" y="19182"/>
                  </a:ln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5" name="Rectangle 29"/>
            <p:cNvSpPr/>
            <p:nvPr/>
          </p:nvSpPr>
          <p:spPr>
            <a:xfrm>
              <a:off x="5181480" y="457200"/>
              <a:ext cx="3429000" cy="5943600"/>
            </a:xfrm>
            <a:prstGeom prst="rect">
              <a:avLst/>
            </a:prstGeom>
            <a:solidFill>
              <a:srgbClr val="7f8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6" name="Oval 30"/>
            <p:cNvSpPr/>
            <p:nvPr/>
          </p:nvSpPr>
          <p:spPr>
            <a:xfrm>
              <a:off x="5943600" y="3392640"/>
              <a:ext cx="1761840" cy="26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7" name="Oval 31"/>
            <p:cNvSpPr/>
            <p:nvPr/>
          </p:nvSpPr>
          <p:spPr>
            <a:xfrm>
              <a:off x="5943600" y="1944720"/>
              <a:ext cx="1761840" cy="26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Oval 32"/>
            <p:cNvSpPr/>
            <p:nvPr/>
          </p:nvSpPr>
          <p:spPr>
            <a:xfrm>
              <a:off x="5943600" y="4992840"/>
              <a:ext cx="1761840" cy="26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9" name="Rectangle 35"/>
          <p:cNvSpPr/>
          <p:nvPr/>
        </p:nvSpPr>
        <p:spPr>
          <a:xfrm>
            <a:off x="609480" y="457200"/>
            <a:ext cx="3429000" cy="5943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Oval 36"/>
          <p:cNvSpPr/>
          <p:nvPr/>
        </p:nvSpPr>
        <p:spPr>
          <a:xfrm>
            <a:off x="1362240" y="156384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Oval 37"/>
          <p:cNvSpPr/>
          <p:nvPr/>
        </p:nvSpPr>
        <p:spPr>
          <a:xfrm>
            <a:off x="1362240" y="194472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Oval 38"/>
          <p:cNvSpPr/>
          <p:nvPr/>
        </p:nvSpPr>
        <p:spPr>
          <a:xfrm>
            <a:off x="1438200" y="3352680"/>
            <a:ext cx="1762200" cy="26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Oval 39"/>
          <p:cNvSpPr/>
          <p:nvPr/>
        </p:nvSpPr>
        <p:spPr>
          <a:xfrm>
            <a:off x="1438200" y="4992840"/>
            <a:ext cx="176220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Oval 10"/>
          <p:cNvSpPr/>
          <p:nvPr/>
        </p:nvSpPr>
        <p:spPr>
          <a:xfrm>
            <a:off x="1447920" y="5659560"/>
            <a:ext cx="176184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pawned naming of related technique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481920" y="5867280"/>
            <a:ext cx="21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outhern b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(D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3352680" y="3200400"/>
            <a:ext cx="2433600" cy="2666880"/>
          </a:xfrm>
          <a:custGeom>
            <a:avLst/>
            <a:gdLst>
              <a:gd name="textAreaLeft" fmla="*/ 163800 w 2433600"/>
              <a:gd name="textAreaRight" fmla="*/ 2269800 w 2433600"/>
              <a:gd name="textAreaTop" fmla="*/ 1233360 h 2666880"/>
              <a:gd name="textAreaBottom" fmla="*/ 1433520 h 2666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849" y="3505"/>
                </a:lnTo>
                <a:lnTo>
                  <a:pt x="9990" y="3505"/>
                </a:lnTo>
                <a:lnTo>
                  <a:pt x="9990" y="9990"/>
                </a:lnTo>
                <a:lnTo>
                  <a:pt x="3505" y="9990"/>
                </a:lnTo>
                <a:lnTo>
                  <a:pt x="3505" y="8849"/>
                </a:lnTo>
                <a:lnTo>
                  <a:pt x="0" y="10800"/>
                </a:lnTo>
                <a:lnTo>
                  <a:pt x="3505" y="12751"/>
                </a:lnTo>
                <a:lnTo>
                  <a:pt x="3505" y="11610"/>
                </a:lnTo>
                <a:lnTo>
                  <a:pt x="9990" y="11610"/>
                </a:lnTo>
                <a:lnTo>
                  <a:pt x="9990" y="18095"/>
                </a:lnTo>
                <a:lnTo>
                  <a:pt x="8849" y="18095"/>
                </a:lnTo>
                <a:lnTo>
                  <a:pt x="10800" y="21600"/>
                </a:lnTo>
                <a:lnTo>
                  <a:pt x="12751" y="18095"/>
                </a:lnTo>
                <a:lnTo>
                  <a:pt x="11610" y="18095"/>
                </a:lnTo>
                <a:lnTo>
                  <a:pt x="11610" y="11610"/>
                </a:lnTo>
                <a:lnTo>
                  <a:pt x="18095" y="11610"/>
                </a:lnTo>
                <a:lnTo>
                  <a:pt x="18095" y="12751"/>
                </a:lnTo>
                <a:lnTo>
                  <a:pt x="21600" y="10800"/>
                </a:lnTo>
                <a:lnTo>
                  <a:pt x="18095" y="8849"/>
                </a:lnTo>
                <a:lnTo>
                  <a:pt x="18095" y="9990"/>
                </a:lnTo>
                <a:lnTo>
                  <a:pt x="11610" y="9990"/>
                </a:lnTo>
                <a:lnTo>
                  <a:pt x="11610" y="3505"/>
                </a:lnTo>
                <a:lnTo>
                  <a:pt x="12751" y="350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481200" y="245412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rthern b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(R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449360" y="4054320"/>
            <a:ext cx="20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Western b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(Protei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01120" y="4130640"/>
            <a:ext cx="190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Eastern bl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(??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How many copies of ‘Gene X’ does </a:t>
            </a:r>
            <a:r>
              <a:rPr b="0" i="1" lang="en-US" sz="3200" spc="-1" strike="noStrike">
                <a:solidFill>
                  <a:srgbClr val="ffffff"/>
                </a:solidFill>
                <a:latin typeface="Lucida Sans Unicode"/>
              </a:rPr>
              <a:t>Capsella rubella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 posses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57" name="Picture 234" descr="Capsella_thaliana"/>
          <p:cNvPicPr/>
          <p:nvPr/>
        </p:nvPicPr>
        <p:blipFill>
          <a:blip r:embed="rId1"/>
          <a:srcRect l="56916" t="0" r="0" b="0"/>
          <a:stretch/>
        </p:blipFill>
        <p:spPr>
          <a:xfrm>
            <a:off x="1676520" y="1371600"/>
            <a:ext cx="1539720" cy="5257800"/>
          </a:xfrm>
          <a:prstGeom prst="rect">
            <a:avLst/>
          </a:prstGeom>
          <a:ln w="0">
            <a:noFill/>
          </a:ln>
        </p:spPr>
      </p:pic>
      <p:sp>
        <p:nvSpPr>
          <p:cNvPr id="1758" name="Text Box 235"/>
          <p:cNvSpPr/>
          <p:nvPr/>
        </p:nvSpPr>
        <p:spPr>
          <a:xfrm>
            <a:off x="1440720" y="63244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Capsella rube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Text Box 236"/>
          <p:cNvSpPr/>
          <p:nvPr/>
        </p:nvSpPr>
        <p:spPr>
          <a:xfrm>
            <a:off x="5402520" y="40384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Lucida Sans Unicode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Sans Unicode"/>
              </a:rPr>
              <a:t>Goals of Southern Hybridization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Immobilize DNA onto a permanent substr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Identify DNA sequence (gene) of interes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Example – Looking for Gene X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" name="Picture 7" descr="Cress"/>
          <p:cNvPicPr/>
          <p:nvPr/>
        </p:nvPicPr>
        <p:blipFill>
          <a:blip r:embed="rId1"/>
          <a:stretch/>
        </p:blipFill>
        <p:spPr>
          <a:xfrm>
            <a:off x="1077840" y="1600200"/>
            <a:ext cx="2808360" cy="4952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"/>
          <p:cNvSpPr/>
          <p:nvPr/>
        </p:nvSpPr>
        <p:spPr>
          <a:xfrm>
            <a:off x="1165320" y="63244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Arabidopsis thalia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5229360" y="2362320"/>
            <a:ext cx="2129760" cy="4330440"/>
            <a:chOff x="5229360" y="2362320"/>
            <a:chExt cx="2129760" cy="4330440"/>
          </a:xfrm>
        </p:grpSpPr>
        <p:grpSp>
          <p:nvGrpSpPr>
            <p:cNvPr id="66" name="Group 14"/>
            <p:cNvGrpSpPr/>
            <p:nvPr/>
          </p:nvGrpSpPr>
          <p:grpSpPr>
            <a:xfrm>
              <a:off x="5714640" y="2362320"/>
              <a:ext cx="1067040" cy="3504240"/>
              <a:chOff x="5714640" y="2362320"/>
              <a:chExt cx="1067040" cy="3504240"/>
            </a:xfrm>
          </p:grpSpPr>
          <p:sp>
            <p:nvSpPr>
              <p:cNvPr id="67" name="Line 11"/>
              <p:cNvSpPr/>
              <p:nvPr/>
            </p:nvSpPr>
            <p:spPr>
              <a:xfrm>
                <a:off x="5715000" y="2362320"/>
                <a:ext cx="0" cy="2666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Line 12"/>
              <p:cNvSpPr/>
              <p:nvPr/>
            </p:nvSpPr>
            <p:spPr>
              <a:xfrm>
                <a:off x="6781680" y="2362320"/>
                <a:ext cx="0" cy="2666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Arc 13"/>
              <p:cNvSpPr/>
              <p:nvPr/>
            </p:nvSpPr>
            <p:spPr>
              <a:xfrm rot="10800000">
                <a:off x="5714640" y="4952520"/>
                <a:ext cx="1066680" cy="91404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914040"/>
                  <a:gd name="textAreaBottom" fmla="*/ 914400 h 914040"/>
                </a:gdLst>
                <a:ahLst/>
                <a:rect l="textAreaLeft" t="textAreaTop" r="textAreaRight" b="textAreaBottom"/>
                <a:pathLst>
                  <a:path fill="none" w="43200" h="21600">
                    <a:moveTo>
                      <a:pt x="0" y="21512"/>
                    </a:moveTo>
                    <a:cubicBezTo>
                      <a:pt x="48" y="9617"/>
                      <a:pt x="9705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</a:path>
                  <a:path stroke="0" w="43200" h="21600">
                    <a:moveTo>
                      <a:pt x="0" y="21512"/>
                    </a:moveTo>
                    <a:cubicBezTo>
                      <a:pt x="48" y="9617"/>
                      <a:pt x="9705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" name="Freeform 15"/>
            <p:cNvSpPr/>
            <p:nvPr/>
          </p:nvSpPr>
          <p:spPr>
            <a:xfrm>
              <a:off x="5791320" y="3581280"/>
              <a:ext cx="955440" cy="206712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2067120"/>
                <a:gd name="textAreaBottom" fmla="*/ 2067120 h 2067120"/>
              </a:gdLst>
              <a:ahLst/>
              <a:rect l="textAreaLeft" t="textAreaTop" r="textAreaRight" b="textAreaBottom"/>
              <a:pathLst>
                <a:path w="602" h="1302">
                  <a:moveTo>
                    <a:pt x="44" y="83"/>
                  </a:moveTo>
                  <a:cubicBezTo>
                    <a:pt x="54" y="114"/>
                    <a:pt x="56" y="155"/>
                    <a:pt x="69" y="184"/>
                  </a:cubicBezTo>
                  <a:cubicBezTo>
                    <a:pt x="77" y="202"/>
                    <a:pt x="102" y="234"/>
                    <a:pt x="102" y="234"/>
                  </a:cubicBezTo>
                  <a:cubicBezTo>
                    <a:pt x="125" y="230"/>
                    <a:pt x="159" y="230"/>
                    <a:pt x="177" y="209"/>
                  </a:cubicBezTo>
                  <a:cubicBezTo>
                    <a:pt x="211" y="168"/>
                    <a:pt x="155" y="195"/>
                    <a:pt x="211" y="175"/>
                  </a:cubicBezTo>
                  <a:cubicBezTo>
                    <a:pt x="257" y="185"/>
                    <a:pt x="290" y="201"/>
                    <a:pt x="261" y="259"/>
                  </a:cubicBezTo>
                  <a:cubicBezTo>
                    <a:pt x="256" y="269"/>
                    <a:pt x="174" y="305"/>
                    <a:pt x="161" y="309"/>
                  </a:cubicBezTo>
                  <a:cubicBezTo>
                    <a:pt x="103" y="348"/>
                    <a:pt x="122" y="325"/>
                    <a:pt x="94" y="367"/>
                  </a:cubicBezTo>
                  <a:cubicBezTo>
                    <a:pt x="102" y="409"/>
                    <a:pt x="102" y="429"/>
                    <a:pt x="144" y="442"/>
                  </a:cubicBezTo>
                  <a:cubicBezTo>
                    <a:pt x="166" y="439"/>
                    <a:pt x="193" y="447"/>
                    <a:pt x="211" y="434"/>
                  </a:cubicBezTo>
                  <a:cubicBezTo>
                    <a:pt x="225" y="424"/>
                    <a:pt x="210" y="389"/>
                    <a:pt x="227" y="384"/>
                  </a:cubicBezTo>
                  <a:cubicBezTo>
                    <a:pt x="235" y="381"/>
                    <a:pt x="244" y="379"/>
                    <a:pt x="252" y="376"/>
                  </a:cubicBezTo>
                  <a:cubicBezTo>
                    <a:pt x="293" y="384"/>
                    <a:pt x="330" y="396"/>
                    <a:pt x="369" y="409"/>
                  </a:cubicBezTo>
                  <a:cubicBezTo>
                    <a:pt x="410" y="396"/>
                    <a:pt x="425" y="345"/>
                    <a:pt x="394" y="301"/>
                  </a:cubicBezTo>
                  <a:cubicBezTo>
                    <a:pt x="384" y="287"/>
                    <a:pt x="361" y="295"/>
                    <a:pt x="344" y="292"/>
                  </a:cubicBezTo>
                  <a:cubicBezTo>
                    <a:pt x="328" y="241"/>
                    <a:pt x="348" y="232"/>
                    <a:pt x="394" y="217"/>
                  </a:cubicBezTo>
                  <a:cubicBezTo>
                    <a:pt x="456" y="224"/>
                    <a:pt x="471" y="219"/>
                    <a:pt x="503" y="267"/>
                  </a:cubicBezTo>
                  <a:cubicBezTo>
                    <a:pt x="508" y="284"/>
                    <a:pt x="520" y="299"/>
                    <a:pt x="520" y="317"/>
                  </a:cubicBezTo>
                  <a:cubicBezTo>
                    <a:pt x="520" y="350"/>
                    <a:pt x="518" y="384"/>
                    <a:pt x="511" y="417"/>
                  </a:cubicBezTo>
                  <a:cubicBezTo>
                    <a:pt x="493" y="509"/>
                    <a:pt x="336" y="498"/>
                    <a:pt x="286" y="501"/>
                  </a:cubicBezTo>
                  <a:cubicBezTo>
                    <a:pt x="251" y="512"/>
                    <a:pt x="239" y="538"/>
                    <a:pt x="261" y="576"/>
                  </a:cubicBezTo>
                  <a:cubicBezTo>
                    <a:pt x="286" y="620"/>
                    <a:pt x="360" y="598"/>
                    <a:pt x="411" y="601"/>
                  </a:cubicBezTo>
                  <a:cubicBezTo>
                    <a:pt x="428" y="653"/>
                    <a:pt x="412" y="689"/>
                    <a:pt x="369" y="718"/>
                  </a:cubicBezTo>
                  <a:cubicBezTo>
                    <a:pt x="332" y="712"/>
                    <a:pt x="304" y="704"/>
                    <a:pt x="269" y="693"/>
                  </a:cubicBezTo>
                  <a:cubicBezTo>
                    <a:pt x="214" y="656"/>
                    <a:pt x="224" y="588"/>
                    <a:pt x="161" y="568"/>
                  </a:cubicBezTo>
                  <a:cubicBezTo>
                    <a:pt x="136" y="571"/>
                    <a:pt x="109" y="567"/>
                    <a:pt x="86" y="576"/>
                  </a:cubicBezTo>
                  <a:cubicBezTo>
                    <a:pt x="72" y="582"/>
                    <a:pt x="76" y="631"/>
                    <a:pt x="86" y="651"/>
                  </a:cubicBezTo>
                  <a:cubicBezTo>
                    <a:pt x="91" y="660"/>
                    <a:pt x="103" y="662"/>
                    <a:pt x="111" y="668"/>
                  </a:cubicBezTo>
                  <a:cubicBezTo>
                    <a:pt x="122" y="685"/>
                    <a:pt x="133" y="701"/>
                    <a:pt x="144" y="718"/>
                  </a:cubicBezTo>
                  <a:cubicBezTo>
                    <a:pt x="150" y="726"/>
                    <a:pt x="161" y="743"/>
                    <a:pt x="161" y="743"/>
                  </a:cubicBezTo>
                  <a:cubicBezTo>
                    <a:pt x="123" y="769"/>
                    <a:pt x="82" y="759"/>
                    <a:pt x="44" y="785"/>
                  </a:cubicBezTo>
                  <a:cubicBezTo>
                    <a:pt x="52" y="853"/>
                    <a:pt x="45" y="857"/>
                    <a:pt x="102" y="877"/>
                  </a:cubicBezTo>
                  <a:cubicBezTo>
                    <a:pt x="124" y="874"/>
                    <a:pt x="148" y="877"/>
                    <a:pt x="169" y="868"/>
                  </a:cubicBezTo>
                  <a:cubicBezTo>
                    <a:pt x="185" y="861"/>
                    <a:pt x="173" y="830"/>
                    <a:pt x="186" y="818"/>
                  </a:cubicBezTo>
                  <a:cubicBezTo>
                    <a:pt x="192" y="812"/>
                    <a:pt x="203" y="813"/>
                    <a:pt x="211" y="810"/>
                  </a:cubicBezTo>
                  <a:cubicBezTo>
                    <a:pt x="236" y="815"/>
                    <a:pt x="263" y="810"/>
                    <a:pt x="269" y="843"/>
                  </a:cubicBezTo>
                  <a:cubicBezTo>
                    <a:pt x="274" y="871"/>
                    <a:pt x="227" y="918"/>
                    <a:pt x="227" y="918"/>
                  </a:cubicBezTo>
                  <a:cubicBezTo>
                    <a:pt x="209" y="975"/>
                    <a:pt x="232" y="971"/>
                    <a:pt x="278" y="985"/>
                  </a:cubicBezTo>
                  <a:cubicBezTo>
                    <a:pt x="306" y="982"/>
                    <a:pt x="335" y="986"/>
                    <a:pt x="361" y="977"/>
                  </a:cubicBezTo>
                  <a:cubicBezTo>
                    <a:pt x="369" y="974"/>
                    <a:pt x="369" y="961"/>
                    <a:pt x="369" y="952"/>
                  </a:cubicBezTo>
                  <a:cubicBezTo>
                    <a:pt x="369" y="903"/>
                    <a:pt x="362" y="873"/>
                    <a:pt x="336" y="835"/>
                  </a:cubicBezTo>
                  <a:cubicBezTo>
                    <a:pt x="355" y="832"/>
                    <a:pt x="375" y="830"/>
                    <a:pt x="394" y="826"/>
                  </a:cubicBezTo>
                  <a:cubicBezTo>
                    <a:pt x="411" y="822"/>
                    <a:pt x="444" y="810"/>
                    <a:pt x="444" y="810"/>
                  </a:cubicBezTo>
                  <a:cubicBezTo>
                    <a:pt x="474" y="790"/>
                    <a:pt x="483" y="776"/>
                    <a:pt x="495" y="743"/>
                  </a:cubicBezTo>
                  <a:cubicBezTo>
                    <a:pt x="498" y="718"/>
                    <a:pt x="492" y="691"/>
                    <a:pt x="503" y="668"/>
                  </a:cubicBezTo>
                  <a:cubicBezTo>
                    <a:pt x="507" y="660"/>
                    <a:pt x="522" y="670"/>
                    <a:pt x="528" y="676"/>
                  </a:cubicBezTo>
                  <a:cubicBezTo>
                    <a:pt x="542" y="690"/>
                    <a:pt x="561" y="726"/>
                    <a:pt x="561" y="726"/>
                  </a:cubicBezTo>
                  <a:cubicBezTo>
                    <a:pt x="552" y="795"/>
                    <a:pt x="547" y="835"/>
                    <a:pt x="478" y="860"/>
                  </a:cubicBezTo>
                  <a:cubicBezTo>
                    <a:pt x="450" y="901"/>
                    <a:pt x="454" y="915"/>
                    <a:pt x="470" y="960"/>
                  </a:cubicBezTo>
                  <a:cubicBezTo>
                    <a:pt x="465" y="979"/>
                    <a:pt x="467" y="1004"/>
                    <a:pt x="453" y="1018"/>
                  </a:cubicBezTo>
                  <a:cubicBezTo>
                    <a:pt x="447" y="1024"/>
                    <a:pt x="436" y="1024"/>
                    <a:pt x="428" y="1027"/>
                  </a:cubicBezTo>
                  <a:cubicBezTo>
                    <a:pt x="374" y="1045"/>
                    <a:pt x="326" y="1060"/>
                    <a:pt x="269" y="1069"/>
                  </a:cubicBezTo>
                  <a:cubicBezTo>
                    <a:pt x="212" y="1107"/>
                    <a:pt x="238" y="1096"/>
                    <a:pt x="194" y="1110"/>
                  </a:cubicBezTo>
                  <a:cubicBezTo>
                    <a:pt x="169" y="1107"/>
                    <a:pt x="142" y="1111"/>
                    <a:pt x="119" y="1102"/>
                  </a:cubicBezTo>
                  <a:cubicBezTo>
                    <a:pt x="92" y="1091"/>
                    <a:pt x="128" y="1030"/>
                    <a:pt x="136" y="1018"/>
                  </a:cubicBezTo>
                  <a:cubicBezTo>
                    <a:pt x="147" y="983"/>
                    <a:pt x="139" y="973"/>
                    <a:pt x="119" y="943"/>
                  </a:cubicBezTo>
                  <a:cubicBezTo>
                    <a:pt x="94" y="946"/>
                    <a:pt x="68" y="946"/>
                    <a:pt x="44" y="952"/>
                  </a:cubicBezTo>
                  <a:cubicBezTo>
                    <a:pt x="0" y="963"/>
                    <a:pt x="24" y="984"/>
                    <a:pt x="35" y="1018"/>
                  </a:cubicBezTo>
                  <a:cubicBezTo>
                    <a:pt x="38" y="1026"/>
                    <a:pt x="51" y="1026"/>
                    <a:pt x="60" y="1027"/>
                  </a:cubicBezTo>
                  <a:cubicBezTo>
                    <a:pt x="90" y="1031"/>
                    <a:pt x="121" y="1032"/>
                    <a:pt x="152" y="1035"/>
                  </a:cubicBezTo>
                  <a:cubicBezTo>
                    <a:pt x="168" y="1079"/>
                    <a:pt x="149" y="1065"/>
                    <a:pt x="111" y="1077"/>
                  </a:cubicBezTo>
                  <a:cubicBezTo>
                    <a:pt x="58" y="1113"/>
                    <a:pt x="61" y="1198"/>
                    <a:pt x="119" y="1219"/>
                  </a:cubicBezTo>
                  <a:cubicBezTo>
                    <a:pt x="138" y="1216"/>
                    <a:pt x="159" y="1218"/>
                    <a:pt x="177" y="1210"/>
                  </a:cubicBezTo>
                  <a:cubicBezTo>
                    <a:pt x="212" y="1194"/>
                    <a:pt x="202" y="1120"/>
                    <a:pt x="219" y="1094"/>
                  </a:cubicBezTo>
                  <a:cubicBezTo>
                    <a:pt x="229" y="1079"/>
                    <a:pt x="254" y="1074"/>
                    <a:pt x="269" y="1069"/>
                  </a:cubicBezTo>
                  <a:cubicBezTo>
                    <a:pt x="277" y="1072"/>
                    <a:pt x="288" y="1071"/>
                    <a:pt x="294" y="1077"/>
                  </a:cubicBezTo>
                  <a:cubicBezTo>
                    <a:pt x="323" y="1105"/>
                    <a:pt x="283" y="1214"/>
                    <a:pt x="269" y="1252"/>
                  </a:cubicBezTo>
                  <a:cubicBezTo>
                    <a:pt x="272" y="1263"/>
                    <a:pt x="269" y="1278"/>
                    <a:pt x="278" y="1286"/>
                  </a:cubicBezTo>
                  <a:cubicBezTo>
                    <a:pt x="291" y="1297"/>
                    <a:pt x="328" y="1302"/>
                    <a:pt x="328" y="1302"/>
                  </a:cubicBezTo>
                  <a:cubicBezTo>
                    <a:pt x="328" y="1302"/>
                    <a:pt x="400" y="1298"/>
                    <a:pt x="403" y="1277"/>
                  </a:cubicBezTo>
                  <a:cubicBezTo>
                    <a:pt x="410" y="1232"/>
                    <a:pt x="395" y="1173"/>
                    <a:pt x="369" y="1135"/>
                  </a:cubicBezTo>
                  <a:cubicBezTo>
                    <a:pt x="366" y="1127"/>
                    <a:pt x="358" y="1118"/>
                    <a:pt x="361" y="1110"/>
                  </a:cubicBezTo>
                  <a:cubicBezTo>
                    <a:pt x="375" y="1077"/>
                    <a:pt x="424" y="1103"/>
                    <a:pt x="444" y="1110"/>
                  </a:cubicBezTo>
                  <a:cubicBezTo>
                    <a:pt x="469" y="1107"/>
                    <a:pt x="507" y="1124"/>
                    <a:pt x="520" y="1102"/>
                  </a:cubicBezTo>
                  <a:cubicBezTo>
                    <a:pt x="557" y="1038"/>
                    <a:pt x="516" y="977"/>
                    <a:pt x="461" y="960"/>
                  </a:cubicBezTo>
                  <a:cubicBezTo>
                    <a:pt x="329" y="918"/>
                    <a:pt x="248" y="916"/>
                    <a:pt x="94" y="910"/>
                  </a:cubicBezTo>
                  <a:cubicBezTo>
                    <a:pt x="61" y="899"/>
                    <a:pt x="47" y="889"/>
                    <a:pt x="27" y="860"/>
                  </a:cubicBezTo>
                  <a:cubicBezTo>
                    <a:pt x="18" y="833"/>
                    <a:pt x="9" y="817"/>
                    <a:pt x="27" y="785"/>
                  </a:cubicBezTo>
                  <a:cubicBezTo>
                    <a:pt x="31" y="777"/>
                    <a:pt x="44" y="779"/>
                    <a:pt x="52" y="776"/>
                  </a:cubicBezTo>
                  <a:cubicBezTo>
                    <a:pt x="69" y="770"/>
                    <a:pt x="102" y="760"/>
                    <a:pt x="102" y="760"/>
                  </a:cubicBezTo>
                  <a:cubicBezTo>
                    <a:pt x="181" y="768"/>
                    <a:pt x="208" y="776"/>
                    <a:pt x="286" y="768"/>
                  </a:cubicBezTo>
                  <a:cubicBezTo>
                    <a:pt x="291" y="751"/>
                    <a:pt x="303" y="736"/>
                    <a:pt x="303" y="718"/>
                  </a:cubicBezTo>
                  <a:cubicBezTo>
                    <a:pt x="303" y="663"/>
                    <a:pt x="255" y="619"/>
                    <a:pt x="227" y="576"/>
                  </a:cubicBezTo>
                  <a:cubicBezTo>
                    <a:pt x="222" y="568"/>
                    <a:pt x="220" y="554"/>
                    <a:pt x="211" y="551"/>
                  </a:cubicBezTo>
                  <a:cubicBezTo>
                    <a:pt x="203" y="548"/>
                    <a:pt x="194" y="546"/>
                    <a:pt x="186" y="543"/>
                  </a:cubicBezTo>
                  <a:cubicBezTo>
                    <a:pt x="145" y="515"/>
                    <a:pt x="122" y="516"/>
                    <a:pt x="69" y="509"/>
                  </a:cubicBezTo>
                  <a:cubicBezTo>
                    <a:pt x="61" y="506"/>
                    <a:pt x="50" y="507"/>
                    <a:pt x="44" y="501"/>
                  </a:cubicBezTo>
                  <a:cubicBezTo>
                    <a:pt x="22" y="480"/>
                    <a:pt x="50" y="416"/>
                    <a:pt x="69" y="401"/>
                  </a:cubicBezTo>
                  <a:cubicBezTo>
                    <a:pt x="72" y="399"/>
                    <a:pt x="116" y="385"/>
                    <a:pt x="119" y="384"/>
                  </a:cubicBezTo>
                  <a:cubicBezTo>
                    <a:pt x="202" y="397"/>
                    <a:pt x="251" y="438"/>
                    <a:pt x="319" y="484"/>
                  </a:cubicBezTo>
                  <a:cubicBezTo>
                    <a:pt x="350" y="505"/>
                    <a:pt x="407" y="514"/>
                    <a:pt x="444" y="526"/>
                  </a:cubicBezTo>
                  <a:cubicBezTo>
                    <a:pt x="484" y="517"/>
                    <a:pt x="497" y="509"/>
                    <a:pt x="520" y="476"/>
                  </a:cubicBezTo>
                  <a:cubicBezTo>
                    <a:pt x="510" y="437"/>
                    <a:pt x="504" y="423"/>
                    <a:pt x="470" y="401"/>
                  </a:cubicBezTo>
                  <a:cubicBezTo>
                    <a:pt x="442" y="360"/>
                    <a:pt x="398" y="357"/>
                    <a:pt x="353" y="342"/>
                  </a:cubicBezTo>
                  <a:cubicBezTo>
                    <a:pt x="336" y="336"/>
                    <a:pt x="303" y="326"/>
                    <a:pt x="303" y="326"/>
                  </a:cubicBezTo>
                  <a:cubicBezTo>
                    <a:pt x="297" y="318"/>
                    <a:pt x="287" y="311"/>
                    <a:pt x="286" y="301"/>
                  </a:cubicBezTo>
                  <a:cubicBezTo>
                    <a:pt x="271" y="159"/>
                    <a:pt x="402" y="165"/>
                    <a:pt x="495" y="159"/>
                  </a:cubicBezTo>
                  <a:cubicBezTo>
                    <a:pt x="522" y="149"/>
                    <a:pt x="570" y="117"/>
                    <a:pt x="570" y="117"/>
                  </a:cubicBezTo>
                  <a:cubicBezTo>
                    <a:pt x="589" y="59"/>
                    <a:pt x="602" y="73"/>
                    <a:pt x="561" y="58"/>
                  </a:cubicBezTo>
                  <a:cubicBezTo>
                    <a:pt x="497" y="65"/>
                    <a:pt x="446" y="76"/>
                    <a:pt x="386" y="92"/>
                  </a:cubicBezTo>
                  <a:cubicBezTo>
                    <a:pt x="364" y="89"/>
                    <a:pt x="340" y="91"/>
                    <a:pt x="319" y="83"/>
                  </a:cubicBezTo>
                  <a:cubicBezTo>
                    <a:pt x="300" y="76"/>
                    <a:pt x="290" y="47"/>
                    <a:pt x="278" y="33"/>
                  </a:cubicBezTo>
                  <a:cubicBezTo>
                    <a:pt x="254" y="5"/>
                    <a:pt x="257" y="10"/>
                    <a:pt x="227" y="0"/>
                  </a:cubicBezTo>
                  <a:cubicBezTo>
                    <a:pt x="216" y="3"/>
                    <a:pt x="204" y="3"/>
                    <a:pt x="194" y="8"/>
                  </a:cubicBezTo>
                  <a:cubicBezTo>
                    <a:pt x="121" y="45"/>
                    <a:pt x="169" y="42"/>
                    <a:pt x="127" y="42"/>
                  </a:cubicBezTo>
                </a:path>
              </a:pathLst>
            </a:custGeom>
            <a:noFill/>
            <a:ln w="93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 rot="20556600">
              <a:off x="6171840" y="5334120"/>
              <a:ext cx="158760" cy="2523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00" h="159">
                  <a:moveTo>
                    <a:pt x="0" y="159"/>
                  </a:moveTo>
                  <a:cubicBezTo>
                    <a:pt x="35" y="107"/>
                    <a:pt x="58" y="47"/>
                    <a:pt x="10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9"/>
            <p:cNvSpPr/>
            <p:nvPr/>
          </p:nvSpPr>
          <p:spPr>
            <a:xfrm rot="2967600">
              <a:off x="6423480" y="3582000"/>
              <a:ext cx="158760" cy="2523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00" h="159">
                  <a:moveTo>
                    <a:pt x="0" y="159"/>
                  </a:moveTo>
                  <a:cubicBezTo>
                    <a:pt x="35" y="107"/>
                    <a:pt x="58" y="47"/>
                    <a:pt x="10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5229360" y="6324480"/>
              <a:ext cx="21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2 copies of gene X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apsella_thaliana"/>
          <p:cNvPicPr/>
          <p:nvPr/>
        </p:nvPicPr>
        <p:blipFill>
          <a:blip r:embed="rId1"/>
          <a:srcRect l="56916" t="0" r="0" b="0"/>
          <a:stretch/>
        </p:blipFill>
        <p:spPr>
          <a:xfrm>
            <a:off x="1676520" y="1371600"/>
            <a:ext cx="1539720" cy="5257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440720" y="63244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Capsella rube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4052880" y="2362320"/>
            <a:ext cx="3266640" cy="4330440"/>
            <a:chOff x="4052880" y="2362320"/>
            <a:chExt cx="3266640" cy="4330440"/>
          </a:xfrm>
        </p:grpSpPr>
        <p:sp>
          <p:nvSpPr>
            <p:cNvPr id="77" name="Text Box 5"/>
            <p:cNvSpPr/>
            <p:nvPr/>
          </p:nvSpPr>
          <p:spPr>
            <a:xfrm>
              <a:off x="5221440" y="632448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? copies of gene X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8" name="Group 6"/>
            <p:cNvGrpSpPr/>
            <p:nvPr/>
          </p:nvGrpSpPr>
          <p:grpSpPr>
            <a:xfrm>
              <a:off x="4052880" y="2362320"/>
              <a:ext cx="2728800" cy="3504240"/>
              <a:chOff x="4052880" y="2362320"/>
              <a:chExt cx="2728800" cy="3504240"/>
            </a:xfrm>
          </p:grpSpPr>
          <p:grpSp>
            <p:nvGrpSpPr>
              <p:cNvPr id="79" name="Group 7"/>
              <p:cNvGrpSpPr/>
              <p:nvPr/>
            </p:nvGrpSpPr>
            <p:grpSpPr>
              <a:xfrm>
                <a:off x="5714640" y="2362320"/>
                <a:ext cx="1067040" cy="3504240"/>
                <a:chOff x="5714640" y="2362320"/>
                <a:chExt cx="1067040" cy="3504240"/>
              </a:xfrm>
            </p:grpSpPr>
            <p:grpSp>
              <p:nvGrpSpPr>
                <p:cNvPr id="80" name="Group 8"/>
                <p:cNvGrpSpPr/>
                <p:nvPr/>
              </p:nvGrpSpPr>
              <p:grpSpPr>
                <a:xfrm>
                  <a:off x="5714640" y="2362320"/>
                  <a:ext cx="1067040" cy="3504240"/>
                  <a:chOff x="5714640" y="2362320"/>
                  <a:chExt cx="1067040" cy="3504240"/>
                </a:xfrm>
              </p:grpSpPr>
              <p:sp>
                <p:nvSpPr>
                  <p:cNvPr id="81" name="Line 9"/>
                  <p:cNvSpPr/>
                  <p:nvPr/>
                </p:nvSpPr>
                <p:spPr>
                  <a:xfrm>
                    <a:off x="5715000" y="2362320"/>
                    <a:ext cx="0" cy="26665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" name="Line 10"/>
                  <p:cNvSpPr/>
                  <p:nvPr/>
                </p:nvSpPr>
                <p:spPr>
                  <a:xfrm>
                    <a:off x="6781680" y="2362320"/>
                    <a:ext cx="0" cy="26665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" name="Arc 11"/>
                  <p:cNvSpPr/>
                  <p:nvPr/>
                </p:nvSpPr>
                <p:spPr>
                  <a:xfrm rot="10800000">
                    <a:off x="5714640" y="4952520"/>
                    <a:ext cx="1066680" cy="914040"/>
                  </a:xfrm>
                  <a:custGeom>
                    <a:avLst/>
                    <a:gdLst>
                      <a:gd name="textAreaLeft" fmla="*/ 0 w 1066680"/>
                      <a:gd name="textAreaRight" fmla="*/ 1067040 w 1066680"/>
                      <a:gd name="textAreaTop" fmla="*/ 0 h 914040"/>
                      <a:gd name="textAreaBottom" fmla="*/ 914400 h 914040"/>
                    </a:gdLst>
                    <a:ahLst/>
                    <a:rect l="textAreaLeft" t="textAreaTop" r="textAreaRight" b="textAreaBottom"/>
                    <a:pathLst>
                      <a:path fill="none" w="43200" h="21600">
                        <a:moveTo>
                          <a:pt x="0" y="21512"/>
                        </a:moveTo>
                        <a:cubicBezTo>
                          <a:pt x="48" y="9617"/>
                          <a:pt x="9705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</a:path>
                      <a:path stroke="0" w="43200" h="21600">
                        <a:moveTo>
                          <a:pt x="0" y="21512"/>
                        </a:moveTo>
                        <a:cubicBezTo>
                          <a:pt x="48" y="9617"/>
                          <a:pt x="9705" y="-1"/>
                          <a:pt x="21600" y="0"/>
                        </a:cubicBezTo>
                        <a:cubicBezTo>
                          <a:pt x="33529" y="0"/>
                          <a:pt x="43200" y="9670"/>
                          <a:pt x="43200" y="21600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84" name="Freeform 12"/>
                <p:cNvSpPr/>
                <p:nvPr/>
              </p:nvSpPr>
              <p:spPr>
                <a:xfrm>
                  <a:off x="5791320" y="3581280"/>
                  <a:ext cx="955440" cy="2067120"/>
                </a:xfrm>
                <a:custGeom>
                  <a:avLst/>
                  <a:gdLst>
                    <a:gd name="textAreaLeft" fmla="*/ 0 w 955440"/>
                    <a:gd name="textAreaRight" fmla="*/ 955800 w 955440"/>
                    <a:gd name="textAreaTop" fmla="*/ 0 h 2067120"/>
                    <a:gd name="textAreaBottom" fmla="*/ 2067120 h 2067120"/>
                  </a:gdLst>
                  <a:ahLst/>
                  <a:rect l="textAreaLeft" t="textAreaTop" r="textAreaRight" b="textAreaBottom"/>
                  <a:pathLst>
                    <a:path w="602" h="1302">
                      <a:moveTo>
                        <a:pt x="44" y="83"/>
                      </a:moveTo>
                      <a:cubicBezTo>
                        <a:pt x="54" y="114"/>
                        <a:pt x="56" y="155"/>
                        <a:pt x="69" y="184"/>
                      </a:cubicBezTo>
                      <a:cubicBezTo>
                        <a:pt x="77" y="202"/>
                        <a:pt x="102" y="234"/>
                        <a:pt x="102" y="234"/>
                      </a:cubicBezTo>
                      <a:cubicBezTo>
                        <a:pt x="125" y="230"/>
                        <a:pt x="159" y="230"/>
                        <a:pt x="177" y="209"/>
                      </a:cubicBezTo>
                      <a:cubicBezTo>
                        <a:pt x="211" y="168"/>
                        <a:pt x="155" y="195"/>
                        <a:pt x="211" y="175"/>
                      </a:cubicBezTo>
                      <a:cubicBezTo>
                        <a:pt x="257" y="185"/>
                        <a:pt x="290" y="201"/>
                        <a:pt x="261" y="259"/>
                      </a:cubicBezTo>
                      <a:cubicBezTo>
                        <a:pt x="256" y="269"/>
                        <a:pt x="174" y="305"/>
                        <a:pt x="161" y="309"/>
                      </a:cubicBezTo>
                      <a:cubicBezTo>
                        <a:pt x="103" y="348"/>
                        <a:pt x="122" y="325"/>
                        <a:pt x="94" y="367"/>
                      </a:cubicBezTo>
                      <a:cubicBezTo>
                        <a:pt x="102" y="409"/>
                        <a:pt x="102" y="429"/>
                        <a:pt x="144" y="442"/>
                      </a:cubicBezTo>
                      <a:cubicBezTo>
                        <a:pt x="166" y="439"/>
                        <a:pt x="193" y="447"/>
                        <a:pt x="211" y="434"/>
                      </a:cubicBezTo>
                      <a:cubicBezTo>
                        <a:pt x="225" y="424"/>
                        <a:pt x="210" y="389"/>
                        <a:pt x="227" y="384"/>
                      </a:cubicBezTo>
                      <a:cubicBezTo>
                        <a:pt x="235" y="381"/>
                        <a:pt x="244" y="379"/>
                        <a:pt x="252" y="376"/>
                      </a:cubicBezTo>
                      <a:cubicBezTo>
                        <a:pt x="293" y="384"/>
                        <a:pt x="330" y="396"/>
                        <a:pt x="369" y="409"/>
                      </a:cubicBezTo>
                      <a:cubicBezTo>
                        <a:pt x="410" y="396"/>
                        <a:pt x="425" y="345"/>
                        <a:pt x="394" y="301"/>
                      </a:cubicBezTo>
                      <a:cubicBezTo>
                        <a:pt x="384" y="287"/>
                        <a:pt x="361" y="295"/>
                        <a:pt x="344" y="292"/>
                      </a:cubicBezTo>
                      <a:cubicBezTo>
                        <a:pt x="328" y="241"/>
                        <a:pt x="348" y="232"/>
                        <a:pt x="394" y="217"/>
                      </a:cubicBezTo>
                      <a:cubicBezTo>
                        <a:pt x="456" y="224"/>
                        <a:pt x="471" y="219"/>
                        <a:pt x="503" y="267"/>
                      </a:cubicBezTo>
                      <a:cubicBezTo>
                        <a:pt x="508" y="284"/>
                        <a:pt x="520" y="299"/>
                        <a:pt x="520" y="317"/>
                      </a:cubicBezTo>
                      <a:cubicBezTo>
                        <a:pt x="520" y="350"/>
                        <a:pt x="518" y="384"/>
                        <a:pt x="511" y="417"/>
                      </a:cubicBezTo>
                      <a:cubicBezTo>
                        <a:pt x="493" y="509"/>
                        <a:pt x="336" y="498"/>
                        <a:pt x="286" y="501"/>
                      </a:cubicBezTo>
                      <a:cubicBezTo>
                        <a:pt x="251" y="512"/>
                        <a:pt x="239" y="538"/>
                        <a:pt x="261" y="576"/>
                      </a:cubicBezTo>
                      <a:cubicBezTo>
                        <a:pt x="286" y="620"/>
                        <a:pt x="360" y="598"/>
                        <a:pt x="411" y="601"/>
                      </a:cubicBezTo>
                      <a:cubicBezTo>
                        <a:pt x="428" y="653"/>
                        <a:pt x="412" y="689"/>
                        <a:pt x="369" y="718"/>
                      </a:cubicBezTo>
                      <a:cubicBezTo>
                        <a:pt x="332" y="712"/>
                        <a:pt x="304" y="704"/>
                        <a:pt x="269" y="693"/>
                      </a:cubicBezTo>
                      <a:cubicBezTo>
                        <a:pt x="214" y="656"/>
                        <a:pt x="224" y="588"/>
                        <a:pt x="161" y="568"/>
                      </a:cubicBezTo>
                      <a:cubicBezTo>
                        <a:pt x="136" y="571"/>
                        <a:pt x="109" y="567"/>
                        <a:pt x="86" y="576"/>
                      </a:cubicBezTo>
                      <a:cubicBezTo>
                        <a:pt x="72" y="582"/>
                        <a:pt x="76" y="631"/>
                        <a:pt x="86" y="651"/>
                      </a:cubicBezTo>
                      <a:cubicBezTo>
                        <a:pt x="91" y="660"/>
                        <a:pt x="103" y="662"/>
                        <a:pt x="111" y="668"/>
                      </a:cubicBezTo>
                      <a:cubicBezTo>
                        <a:pt x="122" y="685"/>
                        <a:pt x="133" y="701"/>
                        <a:pt x="144" y="718"/>
                      </a:cubicBezTo>
                      <a:cubicBezTo>
                        <a:pt x="150" y="726"/>
                        <a:pt x="161" y="743"/>
                        <a:pt x="161" y="743"/>
                      </a:cubicBezTo>
                      <a:cubicBezTo>
                        <a:pt x="123" y="769"/>
                        <a:pt x="82" y="759"/>
                        <a:pt x="44" y="785"/>
                      </a:cubicBezTo>
                      <a:cubicBezTo>
                        <a:pt x="52" y="853"/>
                        <a:pt x="45" y="857"/>
                        <a:pt x="102" y="877"/>
                      </a:cubicBezTo>
                      <a:cubicBezTo>
                        <a:pt x="124" y="874"/>
                        <a:pt x="148" y="877"/>
                        <a:pt x="169" y="868"/>
                      </a:cubicBezTo>
                      <a:cubicBezTo>
                        <a:pt x="185" y="861"/>
                        <a:pt x="173" y="830"/>
                        <a:pt x="186" y="818"/>
                      </a:cubicBezTo>
                      <a:cubicBezTo>
                        <a:pt x="192" y="812"/>
                        <a:pt x="203" y="813"/>
                        <a:pt x="211" y="810"/>
                      </a:cubicBezTo>
                      <a:cubicBezTo>
                        <a:pt x="236" y="815"/>
                        <a:pt x="263" y="810"/>
                        <a:pt x="269" y="843"/>
                      </a:cubicBezTo>
                      <a:cubicBezTo>
                        <a:pt x="274" y="871"/>
                        <a:pt x="227" y="918"/>
                        <a:pt x="227" y="918"/>
                      </a:cubicBezTo>
                      <a:cubicBezTo>
                        <a:pt x="209" y="975"/>
                        <a:pt x="232" y="971"/>
                        <a:pt x="278" y="985"/>
                      </a:cubicBezTo>
                      <a:cubicBezTo>
                        <a:pt x="306" y="982"/>
                        <a:pt x="335" y="986"/>
                        <a:pt x="361" y="977"/>
                      </a:cubicBezTo>
                      <a:cubicBezTo>
                        <a:pt x="369" y="974"/>
                        <a:pt x="369" y="961"/>
                        <a:pt x="369" y="952"/>
                      </a:cubicBezTo>
                      <a:cubicBezTo>
                        <a:pt x="369" y="903"/>
                        <a:pt x="362" y="873"/>
                        <a:pt x="336" y="835"/>
                      </a:cubicBezTo>
                      <a:cubicBezTo>
                        <a:pt x="355" y="832"/>
                        <a:pt x="375" y="830"/>
                        <a:pt x="394" y="826"/>
                      </a:cubicBezTo>
                      <a:cubicBezTo>
                        <a:pt x="411" y="822"/>
                        <a:pt x="444" y="810"/>
                        <a:pt x="444" y="810"/>
                      </a:cubicBezTo>
                      <a:cubicBezTo>
                        <a:pt x="474" y="790"/>
                        <a:pt x="483" y="776"/>
                        <a:pt x="495" y="743"/>
                      </a:cubicBezTo>
                      <a:cubicBezTo>
                        <a:pt x="498" y="718"/>
                        <a:pt x="492" y="691"/>
                        <a:pt x="503" y="668"/>
                      </a:cubicBezTo>
                      <a:cubicBezTo>
                        <a:pt x="507" y="660"/>
                        <a:pt x="522" y="670"/>
                        <a:pt x="528" y="676"/>
                      </a:cubicBezTo>
                      <a:cubicBezTo>
                        <a:pt x="542" y="690"/>
                        <a:pt x="561" y="726"/>
                        <a:pt x="561" y="726"/>
                      </a:cubicBezTo>
                      <a:cubicBezTo>
                        <a:pt x="552" y="795"/>
                        <a:pt x="547" y="835"/>
                        <a:pt x="478" y="860"/>
                      </a:cubicBezTo>
                      <a:cubicBezTo>
                        <a:pt x="450" y="901"/>
                        <a:pt x="454" y="915"/>
                        <a:pt x="470" y="960"/>
                      </a:cubicBezTo>
                      <a:cubicBezTo>
                        <a:pt x="465" y="979"/>
                        <a:pt x="467" y="1004"/>
                        <a:pt x="453" y="1018"/>
                      </a:cubicBezTo>
                      <a:cubicBezTo>
                        <a:pt x="447" y="1024"/>
                        <a:pt x="436" y="1024"/>
                        <a:pt x="428" y="1027"/>
                      </a:cubicBezTo>
                      <a:cubicBezTo>
                        <a:pt x="374" y="1045"/>
                        <a:pt x="326" y="1060"/>
                        <a:pt x="269" y="1069"/>
                      </a:cubicBezTo>
                      <a:cubicBezTo>
                        <a:pt x="212" y="1107"/>
                        <a:pt x="238" y="1096"/>
                        <a:pt x="194" y="1110"/>
                      </a:cubicBezTo>
                      <a:cubicBezTo>
                        <a:pt x="169" y="1107"/>
                        <a:pt x="142" y="1111"/>
                        <a:pt x="119" y="1102"/>
                      </a:cubicBezTo>
                      <a:cubicBezTo>
                        <a:pt x="92" y="1091"/>
                        <a:pt x="128" y="1030"/>
                        <a:pt x="136" y="1018"/>
                      </a:cubicBezTo>
                      <a:cubicBezTo>
                        <a:pt x="147" y="983"/>
                        <a:pt x="139" y="973"/>
                        <a:pt x="119" y="943"/>
                      </a:cubicBezTo>
                      <a:cubicBezTo>
                        <a:pt x="94" y="946"/>
                        <a:pt x="68" y="946"/>
                        <a:pt x="44" y="952"/>
                      </a:cubicBezTo>
                      <a:cubicBezTo>
                        <a:pt x="0" y="963"/>
                        <a:pt x="24" y="984"/>
                        <a:pt x="35" y="1018"/>
                      </a:cubicBezTo>
                      <a:cubicBezTo>
                        <a:pt x="38" y="1026"/>
                        <a:pt x="51" y="1026"/>
                        <a:pt x="60" y="1027"/>
                      </a:cubicBezTo>
                      <a:cubicBezTo>
                        <a:pt x="90" y="1031"/>
                        <a:pt x="121" y="1032"/>
                        <a:pt x="152" y="1035"/>
                      </a:cubicBezTo>
                      <a:cubicBezTo>
                        <a:pt x="168" y="1079"/>
                        <a:pt x="149" y="1065"/>
                        <a:pt x="111" y="1077"/>
                      </a:cubicBezTo>
                      <a:cubicBezTo>
                        <a:pt x="58" y="1113"/>
                        <a:pt x="61" y="1198"/>
                        <a:pt x="119" y="1219"/>
                      </a:cubicBezTo>
                      <a:cubicBezTo>
                        <a:pt x="138" y="1216"/>
                        <a:pt x="159" y="1218"/>
                        <a:pt x="177" y="1210"/>
                      </a:cubicBezTo>
                      <a:cubicBezTo>
                        <a:pt x="212" y="1194"/>
                        <a:pt x="202" y="1120"/>
                        <a:pt x="219" y="1094"/>
                      </a:cubicBezTo>
                      <a:cubicBezTo>
                        <a:pt x="229" y="1079"/>
                        <a:pt x="254" y="1074"/>
                        <a:pt x="269" y="1069"/>
                      </a:cubicBezTo>
                      <a:cubicBezTo>
                        <a:pt x="277" y="1072"/>
                        <a:pt x="288" y="1071"/>
                        <a:pt x="294" y="1077"/>
                      </a:cubicBezTo>
                      <a:cubicBezTo>
                        <a:pt x="323" y="1105"/>
                        <a:pt x="283" y="1214"/>
                        <a:pt x="269" y="1252"/>
                      </a:cubicBezTo>
                      <a:cubicBezTo>
                        <a:pt x="272" y="1263"/>
                        <a:pt x="269" y="1278"/>
                        <a:pt x="278" y="1286"/>
                      </a:cubicBezTo>
                      <a:cubicBezTo>
                        <a:pt x="291" y="1297"/>
                        <a:pt x="328" y="1302"/>
                        <a:pt x="328" y="1302"/>
                      </a:cubicBezTo>
                      <a:cubicBezTo>
                        <a:pt x="328" y="1302"/>
                        <a:pt x="400" y="1298"/>
                        <a:pt x="403" y="1277"/>
                      </a:cubicBezTo>
                      <a:cubicBezTo>
                        <a:pt x="410" y="1232"/>
                        <a:pt x="395" y="1173"/>
                        <a:pt x="369" y="1135"/>
                      </a:cubicBezTo>
                      <a:cubicBezTo>
                        <a:pt x="366" y="1127"/>
                        <a:pt x="358" y="1118"/>
                        <a:pt x="361" y="1110"/>
                      </a:cubicBezTo>
                      <a:cubicBezTo>
                        <a:pt x="375" y="1077"/>
                        <a:pt x="424" y="1103"/>
                        <a:pt x="444" y="1110"/>
                      </a:cubicBezTo>
                      <a:cubicBezTo>
                        <a:pt x="469" y="1107"/>
                        <a:pt x="507" y="1124"/>
                        <a:pt x="520" y="1102"/>
                      </a:cubicBezTo>
                      <a:cubicBezTo>
                        <a:pt x="557" y="1038"/>
                        <a:pt x="516" y="977"/>
                        <a:pt x="461" y="960"/>
                      </a:cubicBezTo>
                      <a:cubicBezTo>
                        <a:pt x="329" y="918"/>
                        <a:pt x="248" y="916"/>
                        <a:pt x="94" y="910"/>
                      </a:cubicBezTo>
                      <a:cubicBezTo>
                        <a:pt x="61" y="899"/>
                        <a:pt x="47" y="889"/>
                        <a:pt x="27" y="860"/>
                      </a:cubicBezTo>
                      <a:cubicBezTo>
                        <a:pt x="18" y="833"/>
                        <a:pt x="9" y="817"/>
                        <a:pt x="27" y="785"/>
                      </a:cubicBezTo>
                      <a:cubicBezTo>
                        <a:pt x="31" y="777"/>
                        <a:pt x="44" y="779"/>
                        <a:pt x="52" y="776"/>
                      </a:cubicBezTo>
                      <a:cubicBezTo>
                        <a:pt x="69" y="770"/>
                        <a:pt x="102" y="760"/>
                        <a:pt x="102" y="760"/>
                      </a:cubicBezTo>
                      <a:cubicBezTo>
                        <a:pt x="181" y="768"/>
                        <a:pt x="208" y="776"/>
                        <a:pt x="286" y="768"/>
                      </a:cubicBezTo>
                      <a:cubicBezTo>
                        <a:pt x="291" y="751"/>
                        <a:pt x="303" y="736"/>
                        <a:pt x="303" y="718"/>
                      </a:cubicBezTo>
                      <a:cubicBezTo>
                        <a:pt x="303" y="663"/>
                        <a:pt x="255" y="619"/>
                        <a:pt x="227" y="576"/>
                      </a:cubicBezTo>
                      <a:cubicBezTo>
                        <a:pt x="222" y="568"/>
                        <a:pt x="220" y="554"/>
                        <a:pt x="211" y="551"/>
                      </a:cubicBezTo>
                      <a:cubicBezTo>
                        <a:pt x="203" y="548"/>
                        <a:pt x="194" y="546"/>
                        <a:pt x="186" y="543"/>
                      </a:cubicBezTo>
                      <a:cubicBezTo>
                        <a:pt x="145" y="515"/>
                        <a:pt x="122" y="516"/>
                        <a:pt x="69" y="509"/>
                      </a:cubicBezTo>
                      <a:cubicBezTo>
                        <a:pt x="61" y="506"/>
                        <a:pt x="50" y="507"/>
                        <a:pt x="44" y="501"/>
                      </a:cubicBezTo>
                      <a:cubicBezTo>
                        <a:pt x="22" y="480"/>
                        <a:pt x="50" y="416"/>
                        <a:pt x="69" y="401"/>
                      </a:cubicBezTo>
                      <a:cubicBezTo>
                        <a:pt x="72" y="399"/>
                        <a:pt x="116" y="385"/>
                        <a:pt x="119" y="384"/>
                      </a:cubicBezTo>
                      <a:cubicBezTo>
                        <a:pt x="202" y="397"/>
                        <a:pt x="251" y="438"/>
                        <a:pt x="319" y="484"/>
                      </a:cubicBezTo>
                      <a:cubicBezTo>
                        <a:pt x="350" y="505"/>
                        <a:pt x="407" y="514"/>
                        <a:pt x="444" y="526"/>
                      </a:cubicBezTo>
                      <a:cubicBezTo>
                        <a:pt x="484" y="517"/>
                        <a:pt x="497" y="509"/>
                        <a:pt x="520" y="476"/>
                      </a:cubicBezTo>
                      <a:cubicBezTo>
                        <a:pt x="510" y="437"/>
                        <a:pt x="504" y="423"/>
                        <a:pt x="470" y="401"/>
                      </a:cubicBezTo>
                      <a:cubicBezTo>
                        <a:pt x="442" y="360"/>
                        <a:pt x="398" y="357"/>
                        <a:pt x="353" y="342"/>
                      </a:cubicBezTo>
                      <a:cubicBezTo>
                        <a:pt x="336" y="336"/>
                        <a:pt x="303" y="326"/>
                        <a:pt x="303" y="326"/>
                      </a:cubicBezTo>
                      <a:cubicBezTo>
                        <a:pt x="297" y="318"/>
                        <a:pt x="287" y="311"/>
                        <a:pt x="286" y="301"/>
                      </a:cubicBezTo>
                      <a:cubicBezTo>
                        <a:pt x="271" y="159"/>
                        <a:pt x="402" y="165"/>
                        <a:pt x="495" y="159"/>
                      </a:cubicBezTo>
                      <a:cubicBezTo>
                        <a:pt x="522" y="149"/>
                        <a:pt x="570" y="117"/>
                        <a:pt x="570" y="117"/>
                      </a:cubicBezTo>
                      <a:cubicBezTo>
                        <a:pt x="589" y="59"/>
                        <a:pt x="602" y="73"/>
                        <a:pt x="561" y="58"/>
                      </a:cubicBezTo>
                      <a:cubicBezTo>
                        <a:pt x="497" y="65"/>
                        <a:pt x="446" y="76"/>
                        <a:pt x="386" y="92"/>
                      </a:cubicBezTo>
                      <a:cubicBezTo>
                        <a:pt x="364" y="89"/>
                        <a:pt x="340" y="91"/>
                        <a:pt x="319" y="83"/>
                      </a:cubicBezTo>
                      <a:cubicBezTo>
                        <a:pt x="300" y="76"/>
                        <a:pt x="290" y="47"/>
                        <a:pt x="278" y="33"/>
                      </a:cubicBezTo>
                      <a:cubicBezTo>
                        <a:pt x="254" y="5"/>
                        <a:pt x="257" y="10"/>
                        <a:pt x="227" y="0"/>
                      </a:cubicBezTo>
                      <a:cubicBezTo>
                        <a:pt x="216" y="3"/>
                        <a:pt x="204" y="3"/>
                        <a:pt x="194" y="8"/>
                      </a:cubicBezTo>
                      <a:cubicBezTo>
                        <a:pt x="121" y="45"/>
                        <a:pt x="169" y="42"/>
                        <a:pt x="127" y="42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5" name="Group 13"/>
              <p:cNvGrpSpPr/>
              <p:nvPr/>
            </p:nvGrpSpPr>
            <p:grpSpPr>
              <a:xfrm>
                <a:off x="4052880" y="3595680"/>
                <a:ext cx="976320" cy="1116000"/>
                <a:chOff x="4052880" y="3595680"/>
                <a:chExt cx="976320" cy="1116000"/>
              </a:xfrm>
            </p:grpSpPr>
            <p:sp>
              <p:nvSpPr>
                <p:cNvPr id="86" name="AutoShape 14"/>
                <p:cNvSpPr/>
                <p:nvPr/>
              </p:nvSpPr>
              <p:spPr>
                <a:xfrm>
                  <a:off x="4052880" y="3886200"/>
                  <a:ext cx="976320" cy="485640"/>
                </a:xfrm>
                <a:prstGeom prst="rightArrow">
                  <a:avLst>
                    <a:gd name="adj1" fmla="val 50000"/>
                    <a:gd name="adj2" fmla="val 50259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" name="Text Box 15"/>
                <p:cNvSpPr/>
                <p:nvPr/>
              </p:nvSpPr>
              <p:spPr>
                <a:xfrm>
                  <a:off x="4062960" y="3595680"/>
                  <a:ext cx="927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Sans Unicode"/>
                    </a:rPr>
                    <a:t>extract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" name="Text Box 16"/>
                <p:cNvSpPr/>
                <p:nvPr/>
              </p:nvSpPr>
              <p:spPr>
                <a:xfrm>
                  <a:off x="4205880" y="4343400"/>
                  <a:ext cx="668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Sans Unicode"/>
                    </a:rPr>
                    <a:t>DNA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89" name="Freeform 17"/>
          <p:cNvSpPr/>
          <p:nvPr/>
        </p:nvSpPr>
        <p:spPr>
          <a:xfrm rot="20556600">
            <a:off x="6171840" y="5334120"/>
            <a:ext cx="158760" cy="252360"/>
          </a:xfrm>
          <a:custGeom>
            <a:avLst/>
            <a:gdLst>
              <a:gd name="textAreaLeft" fmla="*/ 0 w 158760"/>
              <a:gd name="textAreaRight" fmla="*/ 159120 w 1587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00" h="159">
                <a:moveTo>
                  <a:pt x="0" y="159"/>
                </a:moveTo>
                <a:cubicBezTo>
                  <a:pt x="35" y="107"/>
                  <a:pt x="58" y="47"/>
                  <a:pt x="10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reeform 18"/>
          <p:cNvSpPr/>
          <p:nvPr/>
        </p:nvSpPr>
        <p:spPr>
          <a:xfrm rot="2967600">
            <a:off x="6447240" y="3582000"/>
            <a:ext cx="158760" cy="252360"/>
          </a:xfrm>
          <a:custGeom>
            <a:avLst/>
            <a:gdLst>
              <a:gd name="textAreaLeft" fmla="*/ 0 w 158760"/>
              <a:gd name="textAreaRight" fmla="*/ 159120 w 1587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00" h="159">
                <a:moveTo>
                  <a:pt x="0" y="159"/>
                </a:moveTo>
                <a:cubicBezTo>
                  <a:pt x="35" y="107"/>
                  <a:pt x="58" y="47"/>
                  <a:pt x="10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Freeform 19"/>
          <p:cNvSpPr/>
          <p:nvPr/>
        </p:nvSpPr>
        <p:spPr>
          <a:xfrm>
            <a:off x="6324480" y="4772160"/>
            <a:ext cx="223920" cy="128520"/>
          </a:xfrm>
          <a:custGeom>
            <a:avLst/>
            <a:gdLst>
              <a:gd name="textAreaLeft" fmla="*/ 0 w 223920"/>
              <a:gd name="textAreaRight" fmla="*/ 224280 w 223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41" h="81">
                <a:moveTo>
                  <a:pt x="0" y="81"/>
                </a:moveTo>
                <a:cubicBezTo>
                  <a:pt x="34" y="79"/>
                  <a:pt x="51" y="75"/>
                  <a:pt x="81" y="66"/>
                </a:cubicBezTo>
                <a:cubicBezTo>
                  <a:pt x="84" y="65"/>
                  <a:pt x="98" y="62"/>
                  <a:pt x="102" y="60"/>
                </a:cubicBezTo>
                <a:cubicBezTo>
                  <a:pt x="108" y="56"/>
                  <a:pt x="120" y="48"/>
                  <a:pt x="120" y="48"/>
                </a:cubicBezTo>
                <a:cubicBezTo>
                  <a:pt x="131" y="32"/>
                  <a:pt x="131" y="35"/>
                  <a:pt x="135" y="21"/>
                </a:cubicBezTo>
                <a:cubicBezTo>
                  <a:pt x="137" y="14"/>
                  <a:pt x="141" y="0"/>
                  <a:pt x="141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Example – Looking for Gene X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1. </a:t>
            </a: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Restriction Enzyme Diges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4" name="Group 58"/>
          <p:cNvGrpSpPr/>
          <p:nvPr/>
        </p:nvGrpSpPr>
        <p:grpSpPr>
          <a:xfrm>
            <a:off x="457200" y="2666880"/>
            <a:ext cx="8229600" cy="0"/>
            <a:chOff x="457200" y="2666880"/>
            <a:chExt cx="8229600" cy="0"/>
          </a:xfrm>
        </p:grpSpPr>
        <p:sp>
          <p:nvSpPr>
            <p:cNvPr id="95" name="Line 32"/>
            <p:cNvSpPr/>
            <p:nvPr/>
          </p:nvSpPr>
          <p:spPr>
            <a:xfrm>
              <a:off x="457200" y="2666880"/>
              <a:ext cx="82296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Line 33"/>
            <p:cNvSpPr/>
            <p:nvPr/>
          </p:nvSpPr>
          <p:spPr>
            <a:xfrm>
              <a:off x="64008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Line 34"/>
            <p:cNvSpPr/>
            <p:nvPr/>
          </p:nvSpPr>
          <p:spPr>
            <a:xfrm>
              <a:off x="11430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50292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AutoShape 36"/>
          <p:cNvSpPr/>
          <p:nvPr/>
        </p:nvSpPr>
        <p:spPr>
          <a:xfrm flipV="1">
            <a:off x="1609560" y="2286000"/>
            <a:ext cx="21924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38"/>
          <p:cNvSpPr/>
          <p:nvPr/>
        </p:nvSpPr>
        <p:spPr>
          <a:xfrm flipV="1">
            <a:off x="4809960" y="2286000"/>
            <a:ext cx="21924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AutoShape 39"/>
          <p:cNvSpPr/>
          <p:nvPr/>
        </p:nvSpPr>
        <p:spPr>
          <a:xfrm flipV="1">
            <a:off x="5343480" y="2286000"/>
            <a:ext cx="21924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1317960" y="19810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Ec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366080" y="19810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Ec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5140800" y="19810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Ec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AutoShape 55"/>
          <p:cNvSpPr/>
          <p:nvPr/>
        </p:nvSpPr>
        <p:spPr>
          <a:xfrm flipV="1">
            <a:off x="8391600" y="2286000"/>
            <a:ext cx="218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8036280" y="19810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Ec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1. </a:t>
            </a:r>
            <a:r>
              <a:rPr b="0" lang="en-US" sz="3600" spc="-1" strike="noStrike">
                <a:solidFill>
                  <a:srgbClr val="ffff00"/>
                </a:solidFill>
                <a:latin typeface="Lucida Sans Unicode"/>
              </a:rPr>
              <a:t>Restriction Enzyme Diges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457200" y="2666880"/>
            <a:ext cx="8229600" cy="0"/>
            <a:chOff x="457200" y="2666880"/>
            <a:chExt cx="8229600" cy="0"/>
          </a:xfrm>
        </p:grpSpPr>
        <p:sp>
          <p:nvSpPr>
            <p:cNvPr id="109" name="Line 4"/>
            <p:cNvSpPr/>
            <p:nvPr/>
          </p:nvSpPr>
          <p:spPr>
            <a:xfrm>
              <a:off x="457200" y="2666880"/>
              <a:ext cx="82296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64008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11430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7"/>
            <p:cNvSpPr/>
            <p:nvPr/>
          </p:nvSpPr>
          <p:spPr>
            <a:xfrm>
              <a:off x="50292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" name="Rectangle 19"/>
          <p:cNvSpPr/>
          <p:nvPr/>
        </p:nvSpPr>
        <p:spPr>
          <a:xfrm>
            <a:off x="1676520" y="2514600"/>
            <a:ext cx="7596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4876920" y="2514600"/>
            <a:ext cx="7596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5410080" y="2514600"/>
            <a:ext cx="76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8458200" y="2514600"/>
            <a:ext cx="76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Step 2. Gel Electrophoresi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457200" y="2666880"/>
            <a:ext cx="8229600" cy="0"/>
            <a:chOff x="457200" y="2666880"/>
            <a:chExt cx="8229600" cy="0"/>
          </a:xfrm>
        </p:grpSpPr>
        <p:sp>
          <p:nvSpPr>
            <p:cNvPr id="119" name="Line 4"/>
            <p:cNvSpPr/>
            <p:nvPr/>
          </p:nvSpPr>
          <p:spPr>
            <a:xfrm>
              <a:off x="457200" y="2666880"/>
              <a:ext cx="822960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64008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11430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>
              <a:off x="5029200" y="26668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" name="Rectangle 8"/>
          <p:cNvSpPr/>
          <p:nvPr/>
        </p:nvSpPr>
        <p:spPr>
          <a:xfrm>
            <a:off x="1676520" y="2514600"/>
            <a:ext cx="7596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876920" y="2514600"/>
            <a:ext cx="7596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410080" y="2514600"/>
            <a:ext cx="76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8458200" y="2514600"/>
            <a:ext cx="76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762120" y="3200400"/>
            <a:ext cx="75438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1066680" y="3657600"/>
            <a:ext cx="3049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92320" y="4294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8475840" y="4433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58"/>
          <p:cNvGrpSpPr/>
          <p:nvPr/>
        </p:nvGrpSpPr>
        <p:grpSpPr>
          <a:xfrm>
            <a:off x="1143000" y="3733920"/>
            <a:ext cx="152280" cy="2057400"/>
            <a:chOff x="1143000" y="3733920"/>
            <a:chExt cx="152280" cy="2057400"/>
          </a:xfrm>
        </p:grpSpPr>
        <p:sp>
          <p:nvSpPr>
            <p:cNvPr id="132" name="Line 28"/>
            <p:cNvSpPr/>
            <p:nvPr/>
          </p:nvSpPr>
          <p:spPr>
            <a:xfrm>
              <a:off x="1143000" y="3733920"/>
              <a:ext cx="0" cy="20574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1295280" y="3733920"/>
              <a:ext cx="0" cy="20574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31"/>
            <p:cNvSpPr/>
            <p:nvPr/>
          </p:nvSpPr>
          <p:spPr>
            <a:xfrm>
              <a:off x="1218960" y="3733920"/>
              <a:ext cx="0" cy="20574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" name="Group 59"/>
          <p:cNvGrpSpPr/>
          <p:nvPr/>
        </p:nvGrpSpPr>
        <p:grpSpPr>
          <a:xfrm>
            <a:off x="1143000" y="3809880"/>
            <a:ext cx="152280" cy="1905120"/>
            <a:chOff x="1143000" y="3809880"/>
            <a:chExt cx="152280" cy="1905120"/>
          </a:xfrm>
        </p:grpSpPr>
        <p:sp>
          <p:nvSpPr>
            <p:cNvPr id="136" name="Line 20"/>
            <p:cNvSpPr/>
            <p:nvPr/>
          </p:nvSpPr>
          <p:spPr>
            <a:xfrm>
              <a:off x="1143000" y="3809880"/>
              <a:ext cx="0" cy="19051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23"/>
            <p:cNvSpPr/>
            <p:nvPr/>
          </p:nvSpPr>
          <p:spPr>
            <a:xfrm>
              <a:off x="1143000" y="51055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1295280" y="3809880"/>
              <a:ext cx="0" cy="19051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1295280" y="51055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1218960" y="3809880"/>
              <a:ext cx="0" cy="19051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1218960" y="51055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60"/>
          <p:cNvGrpSpPr/>
          <p:nvPr/>
        </p:nvGrpSpPr>
        <p:grpSpPr>
          <a:xfrm>
            <a:off x="1143000" y="4114800"/>
            <a:ext cx="152280" cy="1295280"/>
            <a:chOff x="1143000" y="4114800"/>
            <a:chExt cx="152280" cy="1295280"/>
          </a:xfrm>
        </p:grpSpPr>
        <p:sp>
          <p:nvSpPr>
            <p:cNvPr id="143" name="Line 36"/>
            <p:cNvSpPr/>
            <p:nvPr/>
          </p:nvSpPr>
          <p:spPr>
            <a:xfrm>
              <a:off x="1143000" y="4114800"/>
              <a:ext cx="0" cy="12952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7"/>
            <p:cNvSpPr/>
            <p:nvPr/>
          </p:nvSpPr>
          <p:spPr>
            <a:xfrm>
              <a:off x="1143000" y="43434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8"/>
            <p:cNvSpPr/>
            <p:nvPr/>
          </p:nvSpPr>
          <p:spPr>
            <a:xfrm>
              <a:off x="1219320" y="4114800"/>
              <a:ext cx="0" cy="12952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9"/>
            <p:cNvSpPr/>
            <p:nvPr/>
          </p:nvSpPr>
          <p:spPr>
            <a:xfrm>
              <a:off x="1219320" y="43434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40"/>
            <p:cNvSpPr/>
            <p:nvPr/>
          </p:nvSpPr>
          <p:spPr>
            <a:xfrm>
              <a:off x="1295280" y="4114800"/>
              <a:ext cx="0" cy="12952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41"/>
            <p:cNvSpPr/>
            <p:nvPr/>
          </p:nvSpPr>
          <p:spPr>
            <a:xfrm>
              <a:off x="1295280" y="43434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61"/>
          <p:cNvGrpSpPr/>
          <p:nvPr/>
        </p:nvGrpSpPr>
        <p:grpSpPr>
          <a:xfrm>
            <a:off x="1143000" y="4419720"/>
            <a:ext cx="152280" cy="609480"/>
            <a:chOff x="1143000" y="4419720"/>
            <a:chExt cx="152280" cy="609480"/>
          </a:xfrm>
        </p:grpSpPr>
        <p:sp>
          <p:nvSpPr>
            <p:cNvPr id="150" name="Line 42"/>
            <p:cNvSpPr/>
            <p:nvPr/>
          </p:nvSpPr>
          <p:spPr>
            <a:xfrm>
              <a:off x="1143000" y="44197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43"/>
            <p:cNvSpPr/>
            <p:nvPr/>
          </p:nvSpPr>
          <p:spPr>
            <a:xfrm>
              <a:off x="1143000" y="45464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44"/>
            <p:cNvSpPr/>
            <p:nvPr/>
          </p:nvSpPr>
          <p:spPr>
            <a:xfrm>
              <a:off x="1295280" y="44197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5"/>
            <p:cNvSpPr/>
            <p:nvPr/>
          </p:nvSpPr>
          <p:spPr>
            <a:xfrm>
              <a:off x="1295280" y="45464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6"/>
            <p:cNvSpPr/>
            <p:nvPr/>
          </p:nvSpPr>
          <p:spPr>
            <a:xfrm>
              <a:off x="1218960" y="44197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7"/>
            <p:cNvSpPr/>
            <p:nvPr/>
          </p:nvSpPr>
          <p:spPr>
            <a:xfrm>
              <a:off x="1218960" y="45464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62"/>
          <p:cNvGrpSpPr/>
          <p:nvPr/>
        </p:nvGrpSpPr>
        <p:grpSpPr>
          <a:xfrm>
            <a:off x="1143000" y="4648320"/>
            <a:ext cx="152280" cy="203040"/>
            <a:chOff x="1143000" y="4648320"/>
            <a:chExt cx="152280" cy="203040"/>
          </a:xfrm>
        </p:grpSpPr>
        <p:sp>
          <p:nvSpPr>
            <p:cNvPr id="157" name="Line 48"/>
            <p:cNvSpPr/>
            <p:nvPr/>
          </p:nvSpPr>
          <p:spPr>
            <a:xfrm>
              <a:off x="1143000" y="4648320"/>
              <a:ext cx="0" cy="2030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50"/>
            <p:cNvSpPr/>
            <p:nvPr/>
          </p:nvSpPr>
          <p:spPr>
            <a:xfrm>
              <a:off x="1295280" y="4648320"/>
              <a:ext cx="0" cy="2030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51"/>
            <p:cNvSpPr/>
            <p:nvPr/>
          </p:nvSpPr>
          <p:spPr>
            <a:xfrm>
              <a:off x="1218960" y="4648320"/>
              <a:ext cx="0" cy="2030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65"/>
          <p:cNvGrpSpPr/>
          <p:nvPr/>
        </p:nvGrpSpPr>
        <p:grpSpPr>
          <a:xfrm>
            <a:off x="2286000" y="3581280"/>
            <a:ext cx="5410080" cy="2235240"/>
            <a:chOff x="2286000" y="3581280"/>
            <a:chExt cx="5410080" cy="2235240"/>
          </a:xfrm>
        </p:grpSpPr>
        <p:sp>
          <p:nvSpPr>
            <p:cNvPr id="161" name="Oval 52"/>
            <p:cNvSpPr/>
            <p:nvPr/>
          </p:nvSpPr>
          <p:spPr>
            <a:xfrm>
              <a:off x="2286000" y="3606840"/>
              <a:ext cx="457200" cy="220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53"/>
            <p:cNvSpPr/>
            <p:nvPr/>
          </p:nvSpPr>
          <p:spPr>
            <a:xfrm>
              <a:off x="2819520" y="3606840"/>
              <a:ext cx="457200" cy="220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Oval 54"/>
            <p:cNvSpPr/>
            <p:nvPr/>
          </p:nvSpPr>
          <p:spPr>
            <a:xfrm>
              <a:off x="4343400" y="3581280"/>
              <a:ext cx="457200" cy="221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Oval 55"/>
            <p:cNvSpPr/>
            <p:nvPr/>
          </p:nvSpPr>
          <p:spPr>
            <a:xfrm>
              <a:off x="6172200" y="3581280"/>
              <a:ext cx="457200" cy="221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56"/>
            <p:cNvSpPr/>
            <p:nvPr/>
          </p:nvSpPr>
          <p:spPr>
            <a:xfrm>
              <a:off x="7238880" y="3581280"/>
              <a:ext cx="457200" cy="221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334 -0.0037 E">
                                      <p:cBhvr>
                                        <p:cTn id="130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56667 1.11111E-006 E">
                                      <p:cBhvr>
                                        <p:cTn id="132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-0.00555 E">
                                      <p:cBhvr>
                                        <p:cTn id="134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2 -0.00555 E">
                                      <p:cBhvr>
                                        <p:cTn id="13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4167 -0.00555 E">
                                      <p:cBhvr>
                                        <p:cTn id="138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22:57:59Z</dcterms:created>
  <dc:creator>Michael Melzer</dc:creator>
  <dc:description/>
  <dc:language>en-US</dc:language>
  <cp:lastModifiedBy>ED18</cp:lastModifiedBy>
  <dcterms:modified xsi:type="dcterms:W3CDTF">2011-04-06T01:26:41Z</dcterms:modified>
  <cp:revision>14</cp:revision>
  <dc:subject/>
  <dc:title>Introduction to Northern/Southern Blotting</dc:title>
</cp:coreProperties>
</file>